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434-E872-4D60-AF56-11448BC8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A60-0855-4AB2-86B2-8A5AAF1B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33C3-E8DB-4745-89C7-EFE8F820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FFF-310B-4370-ABB0-B483075D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619-22B9-4295-B826-85A1F780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C193-13F4-4523-BDB7-2A1D8B9D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4F1-592C-41B4-836F-9B6D60D8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D7F-77DB-4F96-9D14-71B99CDD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40A-6EB9-4EFB-B870-CA5D6B7D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0823-CF65-4877-8FD6-59416AFC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980-18F1-4255-BA75-F7BF30B9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7A3-67C4-420D-892D-75D28F90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B19E-C559-48D2-A6B8-89C1DB346136}" type="datetime">
              <a: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62904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1F06-32AD-4E68-A039-DB3EBD0069D9}" type="slidenum">
              <a: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宋体"/>
              </a:rPr>
              <a:t>Minimal Cover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宋体"/>
              </a:rPr>
              <a:t>(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最小覆盖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宋体"/>
              </a:rPr>
              <a:t>)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宋体"/>
              </a:rPr>
              <a:t>(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最小函数依赖集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宋体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lgorithm: Minimal Cov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lgorithm 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Minimal Cover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最小覆盖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4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minimal set M of FDs that covers a given set F of FDs.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429000"/>
            <a:ext cx="8229600" cy="1905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step 1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: From the set F of FDs, we create an equivalent set H of FDs, with only single attributes on the right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512-389A-4766-A60C-145A65B4037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D295D-E008-4492-8318-729873B6BF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lgorithm: Minimal Cov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152280" y="685800"/>
            <a:ext cx="9067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step 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: From the set H of FDs, successively remove individual FDs that are inessential in H.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n FD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 is inessential in a set H of FDs, if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 can be removed from H, with result J, so that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=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or H=J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at is, removal of the FD from H has no effect on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76360" y="3733920"/>
            <a:ext cx="655308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5F6A-FB1D-45E9-8D18-CC30C59F2C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FDDA8-2617-44ED-BD82-5D66F6B423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4999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Let: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F = {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→D, D→E, C→F, BC→A, EF→A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}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H = F – {BC→A} = {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→D, D→E, C→F, EF→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}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BC→A is inessential in F because of F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=H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  <a:ea typeface="宋体"/>
              </a:rPr>
              <a:t>+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55308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9C3-1D69-4C4F-B358-F5F1335C232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1AC30-9274-4892-8361-AD1540F871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lgorithm: Minimal Cov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1049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step 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: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rom the set H of FDs, successively replace individual FDs with FDs that have a smaller number of attributes on the left-hand side, as long as the result does not change H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2819520"/>
            <a:ext cx="746784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F8F-48F1-4E73-A5B4-E13B7CB39B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75C46-0285-4C2A-B3E2-84B1977CCD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4076640"/>
            <a:ext cx="8229600" cy="2781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Let: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F = {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C→E, E→B, BCD→A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We say B can be removed from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CD→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(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replac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BCD→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 by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CD→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) because: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Let: H = F – {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CD→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} ∪ {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CD→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}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= {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C→E, E→B, CD→A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We have: F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= H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  <a:ea typeface="宋体"/>
              </a:rPr>
              <a:t>+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46784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CD8-6125-40B8-BDC7-2E1DD0A307F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43C84-C164-456A-8504-C667E767BC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lgorithm: Minimal Cov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step 4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: From the remaining set of FDs, gather all FDs with equal left-hand sides and use the union rule to create an equivalent set of FDs M where all left-hand sides are unique.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E7B-E20E-47BF-A175-7B20D24E30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916B0-ACD4-4C97-AE61-D3E298A2AB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0-18T03:18:28Z</dcterms:modified>
  <cp:revision>714</cp:revision>
  <dc:subject/>
  <dc:title>PowerPoint Presentation</dc:title>
</cp:coreProperties>
</file>