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326-1593-489A-9B13-2B3B9F19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03E-EB04-4BE0-8AC8-46F4AB30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010-FC54-41E9-9C3D-18EB251D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852-B1E0-4608-9C7B-F7F00B48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B42-50CC-4F22-8155-701F83C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A3C-7A71-447D-9824-EAFD6C46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50F-5814-456B-BD33-A392EE67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4D8-4E94-417C-81A1-6C35A693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941-E82D-4356-B7CA-7C127D7E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376-F980-475B-9886-49331B6B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7D4-FC31-4C06-B584-AB68FE1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723-AD35-400B-A216-277B61C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E2FB-B3B1-481C-9AF4-3C674EF510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: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E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B→ABC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否逻辑蕴涵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的所有函数依赖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否逻辑蕴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合并规则可以得到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①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→A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增广规则可以得到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②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CDAD→C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可以将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简写为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③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ACD→C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③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和传递规则可以得到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: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E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B→ABC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057400"/>
            <a:ext cx="868680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否逻辑蕴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分解规则可以得到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→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合并规则可以得到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→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和增广规则可以得到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本身就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的函数依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否逻辑蕴涵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的所有函数依赖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否逻辑蕴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分解规则可以得到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B→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本身就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的函数依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否逻辑蕴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分解规则可以得到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: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E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B→ABC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4:03:46Z</dcterms:created>
  <dc:creator>bwy</dc:creator>
  <dc:description/>
  <dc:language>en-US</dc:language>
  <cp:lastModifiedBy>bwy</cp:lastModifiedBy>
  <dcterms:modified xsi:type="dcterms:W3CDTF">2006-12-10T14:12:39Z</dcterms:modified>
  <cp:revision>2</cp:revision>
  <dc:subject/>
  <dc:title>PowerPoint 演示文稿</dc:title>
</cp:coreProperties>
</file>