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3AC-00AA-4468-8798-0EE1DA66A1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电话不能作为关键字，比如办公电话可以由多个人共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6F1B-99CC-48B2-A233-0867C08E8E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非主属性为空集，所以满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N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决定因素包含关键字，所以满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N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幻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F95-0369-42C2-A6AB-00D7A30529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B767-5116-4834-8F82-74B283E91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6518-4AAF-43BF-BA6F-1635A973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7AE7-2968-4D52-9FA5-9D931CB8A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D90A-57D2-408A-A6F6-72CA2D6D0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2197-C73A-497C-8C90-D2D30360E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D613-93FE-4534-B982-429168BF6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55C5-66F3-4CDB-8D01-EA4082A17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2ACD-7E6E-4E17-976B-5D4E0F655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997A-E2B4-47A1-BF8A-3BA7E9A9F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E684-508A-4AA0-8B70-A652953DB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9484-AE87-4AA0-8857-AA3883698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5C83-8C65-4009-8B9E-7CAF96DEA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852-90AB-4351-8EB1-4DD8E285400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F6F9-A52C-4E77-8CC7-D52CBC0BA0F8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362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628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答：最小函数依赖集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4920" y="115920"/>
            <a:ext cx="91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借阅”关系的再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4920" y="765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2205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3645000"/>
            <a:ext cx="87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’关系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920" y="4221000"/>
            <a:ext cx="8748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20000"/>
              </a:lnSpc>
              <a:buClr>
                <a:srgbClr val="ff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候选关键字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和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0000"/>
              </a:buClr>
              <a:buSzPct val="75000"/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以满足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E07F-80D8-496E-9894-7EEBE7025B6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]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、出版社名称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8D1-49AA-4AEC-ADAD-F3EBA9DF990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计得到的关系模式如下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书号，书名，出版社名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名称，联系电话，地址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EA80-F163-4BA4-BBF2-B43B4EA644B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Rectangle 1028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每个读者只有唯一的一个住址，但可以登记多个不同的联系电话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那么针对上述的‘读者’关系，请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A3E-FF29-43F9-A194-E91D882FAFEE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→姓名，身份证号，住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身份证号→借书证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借书证号，电话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身份证号，电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联系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E675-2205-42E1-8585-BD22AD12ED6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对上述的‘借阅’关系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721A-854D-4B91-9278-F7DEF045BBF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9A9D-B3BC-4720-BC99-7AD54F6947E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362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152100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3573360"/>
            <a:ext cx="9144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凭‘书号’能够唯一确定一本书，那么‘借阅’关系上的函数依赖情况会发生什么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请给出它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’关系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920" y="115920"/>
            <a:ext cx="91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借阅”关系的再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4920" y="765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A5BD-6BAA-4554-B683-A54FA7C29BF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362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68360" y="152100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3573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凭‘书号’能够唯一确定一本书，那么‘借阅’关系上的函数依赖情况会发生什么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4920" y="115920"/>
            <a:ext cx="91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借阅”关系的再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34920" y="765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4724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5950080"/>
            <a:ext cx="87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该关系上的最小函数依赖集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 Hu</cp:lastModifiedBy>
  <dcterms:modified xsi:type="dcterms:W3CDTF">2013-12-02T08:25:47Z</dcterms:modified>
  <cp:revision>640</cp:revision>
  <dc:subject/>
  <dc:title>PowerPoint Presentation</dc:title>
</cp:coreProperties>
</file>