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4681-941C-4F95-AB00-5D6A43AA1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FA81-7137-4738-B2C3-F181E8CF0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D98E-22A2-4AAA-9340-D7416FFA1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2246-2500-429D-9C81-5C4EF97F8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8F73-BB2F-443E-873B-C80DA68C0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6F3C-4B1F-4F15-8693-AC1C7F682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B549-78ED-4114-B48D-BC915F7A2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0D7C-E826-4105-88B9-40E03F60B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6B00-C589-4570-A624-E06BED5DB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0269-EBD6-43CD-95B2-4D6BE14BE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B938-A71C-4B31-94D5-838B8BDA5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7645-D52C-482A-A45E-B826CF251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20B-A6D0-4A70-B857-88CDD4A2A3C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1287-24C4-4FB6-9C47-487A4AF86CA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0" y="191628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上述的设计结果是否存在问题？如何解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4920" y="2709720"/>
            <a:ext cx="907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00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存在的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3840" y="3213000"/>
            <a:ext cx="8750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设立‘发帖’和‘回帖’两个关系，使用不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帖’也应该有创建者的‘用户名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4920" y="4724280"/>
            <a:ext cx="907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解决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将两个关系合并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C08-3566-40E1-A825-BBBF8D83C05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可以被设计成如下的两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4920" y="3284640"/>
            <a:ext cx="907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……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 flipH="1">
            <a:off x="178560" y="4869000"/>
            <a:ext cx="5977080" cy="1800000"/>
          </a:xfrm>
          <a:prstGeom prst="borderCallout2">
            <a:avLst>
              <a:gd name="adj1" fmla="val 18750"/>
              <a:gd name="adj2" fmla="val -8333"/>
              <a:gd name="adj3" fmla="val 6347"/>
              <a:gd name="adj4" fmla="val -1277"/>
              <a:gd name="adj5" fmla="val -32365"/>
              <a:gd name="adj6" fmla="val -7810"/>
            </a:avLst>
          </a:prstGeom>
          <a:noFill/>
          <a:ln w="25560">
            <a:solidFill>
              <a:srgbClr val="ff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需要在这里添加一个外关键字属性，以建立‘帖子’与‘回帖’之间的关系。请给该外键属性起一个合适的名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AA68-7A4F-4331-9A16-F5227BB35E5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可以被设计成如下的两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24000" y="3357720"/>
            <a:ext cx="8424720" cy="158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帖子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8C4C-F0B0-42B7-967F-37FAFF1667B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也可以被设计成如下的三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09480" y="3429000"/>
            <a:ext cx="80661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4920" y="54936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197000"/>
            <a:ext cx="8424720" cy="15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帖子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4920" y="335772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09480" y="4005360"/>
            <a:ext cx="8066160" cy="180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6880-7BE3-45F4-976D-03C72D07166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67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2]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一个论坛数据库，其信息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主页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：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发帖标题，发帖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：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回复标题，回复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有哪些函数依赖关系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假设将所有属性组织成如下的一个关系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该关系上的最小函数依赖集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给出关系‘论坛’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分解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1665-2580-48CD-90F3-A030B91B446F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主页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：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发帖标题，发帖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：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回复标题，回复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4920" y="1628640"/>
            <a:ext cx="90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有哪些函数依赖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0" y="2205000"/>
            <a:ext cx="907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用户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4920" y="4437000"/>
            <a:ext cx="9074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帖子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589720"/>
            <a:ext cx="9074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回帖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28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假设将所有属性组织成如下的一个关系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请给出该关系上的最小函数依赖集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39E0-C1B5-4671-8A5D-15B4A00FA52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0" y="277956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用户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4920" y="443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帖子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501336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回帖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4920" y="587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还有哪些函数依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28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D325-813D-4557-90C4-4E25E9CE9B4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920" y="1628640"/>
            <a:ext cx="907416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" y="450864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还有哪些函数依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920" y="5086440"/>
            <a:ext cx="9074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56B-3D2A-40D1-9BE1-9CC1CB81F99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197000"/>
            <a:ext cx="9074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该关系上的函数依赖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6372360" y="3573360"/>
            <a:ext cx="2160360" cy="1008000"/>
            <a:chOff x="6372360" y="3573360"/>
            <a:chExt cx="2160360" cy="1008000"/>
          </a:xfrm>
        </p:grpSpPr>
        <p:sp>
          <p:nvSpPr>
            <p:cNvPr id="67" name="Rectangle 9"/>
            <p:cNvSpPr/>
            <p:nvPr/>
          </p:nvSpPr>
          <p:spPr>
            <a:xfrm>
              <a:off x="6553080" y="3641400"/>
              <a:ext cx="197964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并为一个函数依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10"/>
            <p:cNvSpPr/>
            <p:nvPr/>
          </p:nvSpPr>
          <p:spPr>
            <a:xfrm>
              <a:off x="6372360" y="3573360"/>
              <a:ext cx="215640" cy="1008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6372360" y="4797360"/>
            <a:ext cx="2160360" cy="1079640"/>
            <a:chOff x="6372360" y="4797360"/>
            <a:chExt cx="2160360" cy="1079640"/>
          </a:xfrm>
        </p:grpSpPr>
        <p:sp>
          <p:nvSpPr>
            <p:cNvPr id="70" name="Rectangle 14"/>
            <p:cNvSpPr/>
            <p:nvPr/>
          </p:nvSpPr>
          <p:spPr>
            <a:xfrm>
              <a:off x="6553080" y="4870440"/>
              <a:ext cx="1979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合并为一个函数依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5"/>
            <p:cNvSpPr/>
            <p:nvPr/>
          </p:nvSpPr>
          <p:spPr>
            <a:xfrm>
              <a:off x="6372360" y="4797360"/>
              <a:ext cx="215640" cy="1079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CA6D-B5B1-4756-B3E7-7BF2D7E2483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920" y="4653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给出关系‘论坛’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分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F1D9-E877-4F64-AC5E-DDFBED0160F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920" y="4653000"/>
            <a:ext cx="9074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的关键字是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920" y="587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8288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D2B-67AB-4C8D-A43C-78961231861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键字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4920" y="450864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根据算法可得如下分解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4920" y="5084640"/>
            <a:ext cx="907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2T08:34:43Z</dcterms:modified>
  <cp:revision>685</cp:revision>
  <dc:subject/>
  <dc:title>PowerPoint Presentation</dc:title>
</cp:coreProperties>
</file>