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1EFA-E66F-44CF-86C5-4D465B63C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DF20-371F-420A-A816-38D0E0E04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3FC3-D378-4EBC-B8D3-1BAECC147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CFCF-CABC-49F5-A888-C6F0A8CF7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0690-FA2B-4B6F-8806-BC8933D6C9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C9C5-84B6-448C-A249-F3C8E831D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A1AA-6ABD-44EE-8F52-879E10CB6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8576-2360-4E75-919B-D8F55C68F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E319-A397-4EDE-AA5B-BD0EDB61A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E796-E6C9-41C4-827D-8E43FE3DC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99EB-8EF0-4CE4-93B5-49B3D2FDA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295F-9022-457C-B0F2-D8D92BCCB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C678-B4F0-4C0E-94F7-D1B2460B81DA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数据库设计示例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灯片编号占位符 3"/>
          <p:cNvSpPr/>
          <p:nvPr/>
        </p:nvSpPr>
        <p:spPr>
          <a:xfrm>
            <a:off x="7238880" y="636444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2BAD-DA0D-42AD-87B2-F324277CF659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920" y="3429000"/>
            <a:ext cx="9109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上述的分解结果是否满足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N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50920" y="4076640"/>
            <a:ext cx="8713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系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系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能满足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关系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不满足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NF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4920" y="44280"/>
            <a:ext cx="90741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{ (email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{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收信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抄送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},   {  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34920" y="1268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34920" y="2492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34920" y="3213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20"/>
          <p:cNvSpPr/>
          <p:nvPr/>
        </p:nvSpPr>
        <p:spPr>
          <a:xfrm>
            <a:off x="2843280" y="5372280"/>
            <a:ext cx="6300720" cy="1341360"/>
          </a:xfrm>
          <a:prstGeom prst="borderCallout2">
            <a:avLst>
              <a:gd name="adj1" fmla="val 18750"/>
              <a:gd name="adj2" fmla="val -8333"/>
              <a:gd name="adj3" fmla="val 8518"/>
              <a:gd name="adj4" fmla="val -5444"/>
              <a:gd name="adj5" fmla="val -14083"/>
              <a:gd name="adj6" fmla="val -9851"/>
            </a:avLst>
          </a:prstGeom>
          <a:noFill/>
          <a:ln w="25560">
            <a:solidFill>
              <a:srgbClr val="ff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存在着非平凡的多值依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 →→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收信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 →→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抄送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3"/>
          <p:cNvSpPr/>
          <p:nvPr/>
        </p:nvSpPr>
        <p:spPr>
          <a:xfrm>
            <a:off x="7238880" y="6508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CE89-ACCC-4945-B2AA-8673FC025392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920" y="44280"/>
            <a:ext cx="8975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规范化设计的最终结果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501336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上述的关系中，有哪些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MARY KEY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EIGN KEY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间的引用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4920" y="765000"/>
            <a:ext cx="90741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{ (email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{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R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收信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},  {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抄送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},  {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7238880" y="6508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9C21-746B-4BAE-82F5-80094155F988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4920" y="836640"/>
            <a:ext cx="907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R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C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24000" y="3141720"/>
            <a:ext cx="8686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 (email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REFERENC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(em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REFERENC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R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REFERENC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R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REFERENC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(em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C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REFERENC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C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REFERENC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(em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D681-0E9F-4DFB-AA54-8903EB642B7B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4920" y="44280"/>
            <a:ext cx="9074160" cy="676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]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一个邮件管理数据库，其信息如下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联系人：用户名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ai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关键字），电话，联系地址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：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邮件标题，邮件内容，收信人集合，抄送人集合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果是一封回信，那么除了上述的邮件信息外，还需要增加一个“被回复邮件的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”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将上述的所有属性组织成一个关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请问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在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中有哪些函数依赖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给出最小函数依赖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有哪些候选关键字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给出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3N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的分解。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上述的分解结果是否满足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BCN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上述的分解结果是否满足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4N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219F-100A-4911-8B0F-C45B589F1A76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4920" y="44280"/>
            <a:ext cx="907416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属性组成如下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，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mail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电话，联系地址，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邮件标题，邮件内容，收信人集合，抄送人集合，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4920" y="2060640"/>
            <a:ext cx="9074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虑到关系模型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N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约束，可将上述关系表示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4920" y="4005360"/>
            <a:ext cx="8975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关系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有哪些函数依赖？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给出最小函数依赖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关系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有哪些候选关键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给出关系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3NF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上述的分解结果是否满足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CNF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上述的分解结果是否满足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4NF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0005-319A-474C-8CCC-4808F2122302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4920" y="1916280"/>
            <a:ext cx="897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关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有哪些函数依赖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给出最小函数依赖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26920" y="2708280"/>
            <a:ext cx="74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email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826920" y="3500280"/>
            <a:ext cx="74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95280" y="472428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否还有其他的函数依赖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4920" y="44280"/>
            <a:ext cx="9074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虑到关系模型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N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约束，可将上述关系表示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F46D-7806-4AD3-A4FF-F2DBC1577294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08000" y="1413000"/>
            <a:ext cx="8902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有哪些函数依赖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给出最小函数依赖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826920" y="2276640"/>
            <a:ext cx="741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826920" y="2924280"/>
            <a:ext cx="741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826920" y="3573360"/>
            <a:ext cx="74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emai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26920" y="4148280"/>
            <a:ext cx="741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4920" y="44280"/>
            <a:ext cx="90741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7"/>
          <p:cNvGrpSpPr/>
          <p:nvPr/>
        </p:nvGrpSpPr>
        <p:grpSpPr>
          <a:xfrm>
            <a:off x="395280" y="3228840"/>
            <a:ext cx="8748720" cy="2711160"/>
            <a:chOff x="395280" y="3228840"/>
            <a:chExt cx="8748720" cy="2711160"/>
          </a:xfrm>
        </p:grpSpPr>
        <p:grpSp>
          <p:nvGrpSpPr>
            <p:cNvPr id="62" name="Group 14"/>
            <p:cNvGrpSpPr/>
            <p:nvPr/>
          </p:nvGrpSpPr>
          <p:grpSpPr>
            <a:xfrm>
              <a:off x="395280" y="3228840"/>
              <a:ext cx="8748720" cy="2711160"/>
              <a:chOff x="395280" y="3228840"/>
              <a:chExt cx="8748720" cy="2711160"/>
            </a:xfrm>
          </p:grpSpPr>
          <p:sp>
            <p:nvSpPr>
              <p:cNvPr id="63" name="AutoShape 10"/>
              <p:cNvSpPr/>
              <p:nvPr/>
            </p:nvSpPr>
            <p:spPr>
              <a:xfrm>
                <a:off x="6732720" y="3228840"/>
                <a:ext cx="215640" cy="1584000"/>
              </a:xfrm>
              <a:custGeom>
                <a:avLst/>
                <a:gdLst>
                  <a:gd name="textAreaLeft" fmla="*/ 0 w 215640"/>
                  <a:gd name="textAreaRight" fmla="*/ 77760 w 215640"/>
                  <a:gd name="textAreaTop" fmla="*/ 41040 h 1584000"/>
                  <a:gd name="textAreaBottom" fmla="*/ 15429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1"/>
              <p:cNvSpPr/>
              <p:nvPr/>
            </p:nvSpPr>
            <p:spPr>
              <a:xfrm>
                <a:off x="395280" y="5419440"/>
                <a:ext cx="8748720" cy="52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邮件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ID) → (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邮件标题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,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邮件内容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, email,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被回复邮件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ID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>
                <a:off x="6946920" y="4020840"/>
                <a:ext cx="852480" cy="1224000"/>
              </a:xfrm>
              <a:custGeom>
                <a:avLst/>
                <a:gdLst/>
                <a:ahLst/>
                <a:rect l="l" t="t" r="r" b="b"/>
                <a:pathLst>
                  <a:path w="537" h="771">
                    <a:moveTo>
                      <a:pt x="0" y="0"/>
                    </a:moveTo>
                    <a:cubicBezTo>
                      <a:pt x="185" y="72"/>
                      <a:pt x="371" y="144"/>
                      <a:pt x="454" y="272"/>
                    </a:cubicBezTo>
                    <a:cubicBezTo>
                      <a:pt x="537" y="400"/>
                      <a:pt x="518" y="585"/>
                      <a:pt x="499" y="77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Text Box 16"/>
            <p:cNvSpPr/>
            <p:nvPr/>
          </p:nvSpPr>
          <p:spPr>
            <a:xfrm>
              <a:off x="7524720" y="407340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合并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Line 1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B240-934E-4FF0-B10F-4C191FB3B926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Study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4920" y="836640"/>
            <a:ext cx="8975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19177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有哪些函数依赖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给出最小函数依赖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4920" y="2563920"/>
            <a:ext cx="9074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答：最小函数依赖集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email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电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联系地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邮件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邮件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email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被回复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)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B793-461A-4CA7-BBBF-FDA5D1F2F7C8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4920" y="44280"/>
            <a:ext cx="89758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4920" y="3284640"/>
            <a:ext cx="9047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哪些候选关键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68360" y="4365720"/>
            <a:ext cx="849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答：有一个候选关键字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收信人，抄送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灯片编号占位符 3"/>
          <p:cNvSpPr/>
          <p:nvPr/>
        </p:nvSpPr>
        <p:spPr>
          <a:xfrm>
            <a:off x="7238880" y="6508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4553-5DF8-4B08-A86E-56A2084FDA1B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4920" y="44280"/>
            <a:ext cx="897588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键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收信人，抄送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4920" y="4149720"/>
            <a:ext cx="912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给出关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N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4920" y="4797360"/>
            <a:ext cx="9074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email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电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联系地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0" y="3933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3"/>
          <p:cNvSpPr/>
          <p:nvPr/>
        </p:nvSpPr>
        <p:spPr>
          <a:xfrm>
            <a:off x="7238880" y="6508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341A-E755-4A30-94B5-8B8FBDF71204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4920" y="44280"/>
            <a:ext cx="90741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{ (email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{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收信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抄送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},   {  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4920" y="3645000"/>
            <a:ext cx="91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上述的分解结果是否满足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CN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4576680"/>
            <a:ext cx="8496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系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, E, S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都能满足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34920" y="1268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4920" y="2492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4920" y="3213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 Hu</cp:lastModifiedBy>
  <dcterms:modified xsi:type="dcterms:W3CDTF">2013-12-03T02:04:49Z</dcterms:modified>
  <cp:revision>665</cp:revision>
  <dc:subject/>
  <dc:title>PowerPoint Presentation</dc:title>
</cp:coreProperties>
</file>