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C91-4D0A-4C9F-8C21-2D4B4168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E17-11AB-4CC0-A34F-A16F84D3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F02-C70C-46E0-B3CB-AA788227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CA6-35D3-4C68-9611-BB0C4FE1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2EA-1EBE-4FC2-9D6B-9808FD0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0B8-FCCB-41DA-A4C6-FEFE6B35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5EC-519F-45A0-88E9-FB98D863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EBD-DE66-4766-B045-5E399D2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648-5CB6-434D-8953-1F6F0E88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1AE-763E-459C-AD74-1B3F47D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5AA-3373-4CD7-B71F-667AA238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5C5-528A-4113-8130-F3255A32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003-4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7712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BBC1-38DF-4A5E-8BE0-CBA23924FDD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1AF3-591C-4C5F-A71A-675C2FD97BB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最小函数依赖集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, A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, E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E9DD-B58B-4FE1-8832-E6ADAF2DFBA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14600" y="981000"/>
            <a:ext cx="4038480" cy="15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514600" y="2840040"/>
            <a:ext cx="4038480" cy="195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A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556000" y="5113440"/>
            <a:ext cx="4038480" cy="620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≠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78C9-B39A-47ED-87ED-237846C19EB2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514600" y="981000"/>
            <a:ext cx="4038480" cy="15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14600" y="2840040"/>
            <a:ext cx="4038480" cy="195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E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556000" y="5113440"/>
            <a:ext cx="4038480" cy="620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≠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DD10-9DD4-4E0C-822B-E347EF21BB17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514600" y="981000"/>
            <a:ext cx="4038480" cy="15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14600" y="2840040"/>
            <a:ext cx="4038480" cy="195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E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549520" y="5113440"/>
            <a:ext cx="4038480" cy="1195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因此：用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替换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E5FF-0C14-4499-AFC1-149423F10590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514600" y="907920"/>
            <a:ext cx="4038480" cy="1570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14600" y="2708280"/>
            <a:ext cx="4038480" cy="195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E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4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H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556000" y="4940280"/>
            <a:ext cx="4038480" cy="5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≠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14600" y="5670720"/>
            <a:ext cx="403848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步骤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最终计算结果就是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F246-F617-44AC-A129-9DC29060167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58840" y="1414440"/>
            <a:ext cx="2621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851280" y="2637000"/>
            <a:ext cx="936720" cy="792000"/>
          </a:xfrm>
          <a:custGeom>
            <a:avLst/>
            <a:gdLst>
              <a:gd name="textAreaLeft" fmla="*/ 146160 w 936720"/>
              <a:gd name="textAreaRight" fmla="*/ 819720 w 9367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046840" y="1917720"/>
            <a:ext cx="2981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E687-9B80-4E88-A6A8-467AE9FAAC78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 = F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 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DA72-7D31-4EAA-AF26-D7732FEA993F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4120" y="99036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762120" y="990720"/>
            <a:ext cx="4190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611280" y="3429000"/>
            <a:ext cx="5255640" cy="2346120"/>
            <a:chOff x="611280" y="3429000"/>
            <a:chExt cx="5255640" cy="2346120"/>
          </a:xfrm>
        </p:grpSpPr>
        <p:sp>
          <p:nvSpPr>
            <p:cNvPr id="52" name="AutoShape 9"/>
            <p:cNvSpPr/>
            <p:nvPr/>
          </p:nvSpPr>
          <p:spPr>
            <a:xfrm>
              <a:off x="611280" y="4591080"/>
              <a:ext cx="5103360" cy="1184040"/>
            </a:xfrm>
            <a:prstGeom prst="wedgeRoundRectCallout">
              <a:avLst>
                <a:gd name="adj1" fmla="val 29986"/>
                <a:gd name="adj2" fmla="val -115134"/>
                <a:gd name="adj3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使用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Armstrong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公理系统的分解规则，将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fd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Arial"/>
                  <a:ea typeface="宋体"/>
                </a:rPr>
                <a:t>3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分解为依赖因素为单个属性的函数依赖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3454200" y="3429000"/>
              <a:ext cx="2412720" cy="228600"/>
            </a:xfrm>
            <a:custGeom>
              <a:avLst/>
              <a:gdLst>
                <a:gd name="textAreaLeft" fmla="*/ 422280 w 2412720"/>
                <a:gd name="textAreaRight" fmla="*/ 1749240 w 24127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D394-241C-42C1-AA2A-3FD62E7D8C3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360" y="990360"/>
            <a:ext cx="556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将每一个函数依赖都精简为完全函数依赖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这里，只要考虑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不是部分函数依赖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63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276720" y="3932280"/>
            <a:ext cx="556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左边的决定因素中，检查其中的每一个属性，判断其是不是多余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044C-B0CA-4C58-8F26-A111AF24317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9196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76360" y="99072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先考虑去掉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C } 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1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276720" y="3068640"/>
            <a:ext cx="55623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计算结果中不含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因此，不能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来代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400800" y="16002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= { C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59CF-7152-4C78-B7EC-2578736DEC77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9196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76360" y="99072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再考虑去掉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A } 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1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76720" y="3068640"/>
            <a:ext cx="55623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计算结果中含有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因此，可以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来代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400800" y="16002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= { A, C,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AE68-7316-46C2-832A-8E87DE96ED9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9"/>
          <p:cNvGrpSpPr/>
          <p:nvPr/>
        </p:nvGrpSpPr>
        <p:grpSpPr>
          <a:xfrm>
            <a:off x="3065400" y="2637000"/>
            <a:ext cx="2514600" cy="2016000"/>
            <a:chOff x="3065400" y="2637000"/>
            <a:chExt cx="2514600" cy="2016000"/>
          </a:xfrm>
        </p:grpSpPr>
        <p:sp>
          <p:nvSpPr>
            <p:cNvPr id="74" name="AutoShape 6"/>
            <p:cNvSpPr/>
            <p:nvPr/>
          </p:nvSpPr>
          <p:spPr>
            <a:xfrm>
              <a:off x="3065400" y="3566880"/>
              <a:ext cx="2514600" cy="1086120"/>
            </a:xfrm>
            <a:prstGeom prst="wedgeRoundRectCallout">
              <a:avLst>
                <a:gd name="adj1" fmla="val 4222"/>
                <a:gd name="adj2" fmla="val -90851"/>
                <a:gd name="adj3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消去 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f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左边多余的属性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7"/>
            <p:cNvSpPr/>
            <p:nvPr/>
          </p:nvSpPr>
          <p:spPr>
            <a:xfrm>
              <a:off x="3294000" y="2637000"/>
              <a:ext cx="2209680" cy="228240"/>
            </a:xfrm>
            <a:custGeom>
              <a:avLst/>
              <a:gdLst>
                <a:gd name="textAreaLeft" fmla="*/ 386640 w 2209680"/>
                <a:gd name="textAreaRight" fmla="*/ 1602000 w 2209680"/>
                <a:gd name="textAreaTop" fmla="*/ 30600 h 228240"/>
                <a:gd name="textAreaBottom" fmla="*/ 197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Rectangle 10"/>
          <p:cNvSpPr/>
          <p:nvPr/>
        </p:nvSpPr>
        <p:spPr>
          <a:xfrm>
            <a:off x="29196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769000" y="105264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B25-A85E-4742-861B-B1434F33C7DC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276720" y="990720"/>
            <a:ext cx="5562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消除冗余的函数依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方法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依次考虑每一个函数依赖，判断在消去该函数依赖后，新的函数依赖集是否与原来的等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9196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幻灯片编号占位符 5"/>
          <p:cNvSpPr/>
          <p:nvPr/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5998-40C8-4811-96DD-7B4C2F7A5B1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514600" y="981000"/>
            <a:ext cx="4038480" cy="15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514600" y="2695680"/>
            <a:ext cx="4038480" cy="290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蕴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1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可以转化为判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A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556000" y="5734080"/>
            <a:ext cx="403848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≠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 Hu</cp:lastModifiedBy>
  <dcterms:modified xsi:type="dcterms:W3CDTF">2014-05-26T05:24:47Z</dcterms:modified>
  <cp:revision>644</cp:revision>
  <dc:subject/>
  <dc:title>PowerPoint Presentation</dc:title>
</cp:coreProperties>
</file>