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BC2-0D43-4C7A-870C-43A6C511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4FB-607D-4374-830D-C7584166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AD4-BC3A-4EAE-81B7-FB824B66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871-FBC4-4503-8808-C4AEC406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262-CC9C-43EF-B996-BDCAAECF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99A-636D-47BB-81E4-28B61CA4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A0C-E672-4DAE-8195-FDF1E9BF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077-1F62-4C62-8BC7-E852B2E6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DD9-F6B1-4C4D-BEA1-6175D7C8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2EE-333F-46B4-B837-BB518661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C20-B72C-4F3E-8A40-E1D06532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E5C-064D-4FA4-B2C0-8925C431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77120"/>
            <a:ext cx="3962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3834-D793-4532-ADEC-7D0F252C05DB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A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666-39AB-4BAA-B8C8-7E48C20136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1905120"/>
            <a:ext cx="137160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5661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C5F-DA8E-44B5-904D-22B20E76FC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905120"/>
            <a:ext cx="137160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562752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C9B-7144-4DC9-B872-A022E9E0D6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905120"/>
            <a:ext cx="137160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5661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26B-74F7-46BC-8233-BC7F0A02EC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3124080"/>
            <a:ext cx="175248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661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DE2-9C9D-43C1-AE5B-D575F58D6C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124080"/>
            <a:ext cx="175248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5661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863-4F18-4C55-9E60-7870F39C82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733920"/>
            <a:ext cx="175248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5661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381-15DB-4B6A-9719-F2EB8DC573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733920"/>
            <a:ext cx="175248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5661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3D5-2C90-4247-87EA-E42A9A9F99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410080"/>
            <a:ext cx="8305920" cy="94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为在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计算过程中，函数依赖集发生了变化，因此需要返回到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消除冗余的函数依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2276640"/>
            <a:ext cx="936720" cy="576000"/>
          </a:xfrm>
          <a:prstGeom prst="rightArrow">
            <a:avLst>
              <a:gd name="adj1" fmla="val 50000"/>
              <a:gd name="adj2" fmla="val 406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F10-EC68-4466-A3F7-2D1A19D353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124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990720"/>
            <a:ext cx="3505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6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7524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281952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DE2-E3C0-40FA-A8B0-5B9C973EC04F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30320" y="990360"/>
            <a:ext cx="3505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A 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990720"/>
            <a:ext cx="419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A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2708280"/>
            <a:ext cx="936360" cy="504720"/>
          </a:xfrm>
          <a:prstGeom prst="rightArrow">
            <a:avLst>
              <a:gd name="adj1" fmla="val 50000"/>
              <a:gd name="adj2" fmla="val 463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663-ECC3-4E21-BA15-80F56F9AA2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A 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60958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6093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747-74B8-48A1-9424-A179F87CC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569916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695-A3D7-4EEB-8931-D3116E0424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5715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569916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4A1-3071-45BE-AF2C-03A1B32BFD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5715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569916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828-B1E2-4783-944D-49C2BCC2C9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715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569916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C65-597D-4847-B326-2625D8B5B0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715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569916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02B-FB86-4056-936B-995CB09BEB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5715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569916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2FB-CA6D-425F-A4CD-DC3532C99E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18T03:18:00Z</dcterms:modified>
  <cp:revision>639</cp:revision>
  <dc:subject/>
  <dc:title>PowerPoint Presentation</dc:title>
</cp:coreProperties>
</file>