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528-C298-47FD-82E1-833373C7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228-3ACA-4007-8D78-3594DC15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1A0-CB51-419D-8628-5A3F901A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8328-DD29-49B3-9D80-22DB0E98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214-790C-476F-BED5-E3BC60B0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EB4-C457-4472-AF83-85FB0BBA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7B9-730B-4189-AEF4-02C313CC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D7B-A21E-44AE-96A6-D00BBC6C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245-1A8F-4BDF-BA2F-6D0D4EDD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943-9724-4A0C-8839-903708B1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B27-AF97-4F6F-9AE5-17217B8B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222-F74C-45CE-803F-946A2F6E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77120"/>
            <a:ext cx="3962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53F8-9478-4A21-9A49-8E25FF705BBA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708280"/>
            <a:ext cx="8675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tep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20000"/>
              </a:lnSpc>
              <a:spcBef>
                <a:spcPts val="700"/>
              </a:spcBef>
              <a:buClr>
                <a:srgbClr val="00cc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假设去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→ b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则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b c → d,  a c →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a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129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xample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a → b,  b c → d,  a c → d 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Give the minimal cover M for the set F of FDs.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19640" y="40053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=  { a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773360"/>
            <a:ext cx="867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tep 1: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a → b,      b c → d,      a c →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941720"/>
            <a:ext cx="8675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2" marL="1302840" indent="-4341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∵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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{ a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∴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不能去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870-CEBB-4610-B910-265DAA9E71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844640"/>
            <a:ext cx="8675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tep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20000"/>
              </a:lnSpc>
              <a:spcBef>
                <a:spcPts val="700"/>
              </a:spcBef>
              <a:buClr>
                <a:srgbClr val="00cc99"/>
              </a:buClr>
              <a:buFont typeface="Arial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假设去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c → d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则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a → b,  a c →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b, c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129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xample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a → b,  b c → d,  a c → d 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Give the minimal cover M for the set F of FDs.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22560" y="31399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=  { b, c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076640"/>
            <a:ext cx="8675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2" marL="1302840" indent="-4341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∵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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{ b, c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∴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不能去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c →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FE0-A33E-4E95-8204-2DA1A046A2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1844640"/>
            <a:ext cx="8675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tep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20000"/>
              </a:lnSpc>
              <a:spcBef>
                <a:spcPts val="700"/>
              </a:spcBef>
              <a:buClr>
                <a:srgbClr val="00cc99"/>
              </a:buClr>
              <a:buFont typeface="Arial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假设去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c → d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则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a → b,  b c →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a, c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129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xample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a → b,  b c → d,  a c → d 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Give the minimal cover M for the set F of FDs.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2560" y="31399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=  { a, c, b,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4002120"/>
            <a:ext cx="820728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∵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{ a, c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∴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c → d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是一个冗余的函数依赖关系，可以从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删除，则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变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a → b,  b c →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F4D-67CB-4344-987D-794109CA0F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692280"/>
            <a:ext cx="86756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tep 3: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只需要考虑对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 c → d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假设将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c → d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精简为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d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则将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转变为下面的函数依赖集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G = { a → b,  c →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c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4280"/>
            <a:ext cx="8686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a → b,  b c → d 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2205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=  { c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2708280"/>
            <a:ext cx="8207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2" marL="1343880" indent="-44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∵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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{ c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∴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不能用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d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来代替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c →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076640"/>
            <a:ext cx="8675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905040" indent="-45252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Arial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假设将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c → d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精简为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d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则将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转变为下面的函数依赖集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G = { a → b,  b →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b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50706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=  { b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58972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∵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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{ b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∴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也不能用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d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来代替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c →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EB5-992A-4FEC-9237-47F2675973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2421000"/>
            <a:ext cx="8686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tep 3 &amp; 4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结果为：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a → b,  b c →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129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 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 = { a → b,  b c → d,  a c → d }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ive the minimal cover M for the set F of FDs.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A72-02EE-45DC-ACC3-0B6AAC2C86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0-18T03:17:35Z</dcterms:modified>
  <cp:revision>641</cp:revision>
  <dc:subject/>
  <dc:title>PowerPoint Presentation</dc:title>
</cp:coreProperties>
</file>