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1D8-0895-44AB-B344-71DB9AB5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C7D-9A95-4E24-8485-CC142CC1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E80-ABAC-493C-82C8-1D68BFB4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820-03BD-4AFA-96C2-FEB0272D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260-2D14-4B3D-9326-0B6FFDD7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133-A19A-43E1-B145-904CA25B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83F-7F7A-4DC9-87AE-84E84407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521-CF28-4829-973D-1C91DEB8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E04-16E2-4861-93E0-F7D5B666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37D-0412-4D47-A70B-7A4BF63B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31B-4862-49FD-B841-2313FE85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EA9-DFFF-47AE-B167-68EF8D15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63AF-69E8-4D1F-B280-EA7DF4D226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5240" y="4187880"/>
            <a:ext cx="6094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221000"/>
            <a:ext cx="6094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6680" y="76320"/>
          <a:ext cx="3900600" cy="3065040"/>
        </p:xfrm>
        <a:graphic>
          <a:graphicData uri="http://schemas.openxmlformats.org/drawingml/2006/table">
            <a:tbl>
              <a:tblPr/>
              <a:tblGrid>
                <a:gridCol w="912600"/>
                <a:gridCol w="996480"/>
                <a:gridCol w="995040"/>
                <a:gridCol w="996480"/>
              </a:tblGrid>
              <a:tr h="58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2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4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2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84360" y="4187880"/>
            <a:ext cx="28018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 →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32600" y="44280"/>
          <a:ext cx="2903400" cy="3065400"/>
        </p:xfrm>
        <a:graphic>
          <a:graphicData uri="http://schemas.openxmlformats.org/drawingml/2006/table">
            <a:tbl>
              <a:tblPr/>
              <a:tblGrid>
                <a:gridCol w="912960"/>
                <a:gridCol w="993600"/>
                <a:gridCol w="996840"/>
              </a:tblGrid>
              <a:tr h="582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2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4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2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132600" y="3747960"/>
          <a:ext cx="2903400" cy="3065760"/>
        </p:xfrm>
        <a:graphic>
          <a:graphicData uri="http://schemas.openxmlformats.org/drawingml/2006/table">
            <a:tbl>
              <a:tblPr/>
              <a:tblGrid>
                <a:gridCol w="1906560"/>
                <a:gridCol w="996840"/>
              </a:tblGrid>
              <a:tr h="582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2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a1,c1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a1,c2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4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a2,c1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2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a2,c3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427640" y="90792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2349360"/>
            <a:ext cx="432000" cy="3240360"/>
          </a:xfrm>
          <a:custGeom>
            <a:avLst/>
            <a:gdLst>
              <a:gd name="textAreaLeft" fmla="*/ 57600 w 432000"/>
              <a:gd name="textAreaRight" fmla="*/ 374400 w 432000"/>
              <a:gd name="textAreaTop" fmla="*/ 567000 h 3240360"/>
              <a:gd name="textAreaBottom" fmla="*/ 234936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3:27:29Z</dcterms:created>
  <dc:creator>wyb</dc:creator>
  <dc:description/>
  <dc:language>en-US</dc:language>
  <cp:lastModifiedBy>wyb</cp:lastModifiedBy>
  <dcterms:modified xsi:type="dcterms:W3CDTF">2009-10-07T13:34:13Z</dcterms:modified>
  <cp:revision>3</cp:revision>
  <dc:subject/>
  <dc:title>幻灯片 1</dc:title>
</cp:coreProperties>
</file>