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2F89-C184-4A87-8109-DD91B9DF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5816-4CE5-40FA-9C1A-AA49383C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1DDB-8972-45B8-9C40-A3B0E19E0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79E8-7B04-4704-8461-92002DE8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C883-4311-45DF-952E-2EBB368D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D34D-7C4E-4B9F-BD5F-4FBF0262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8919-23A8-4712-82CB-C2064FA8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1B0F-C65F-481C-AB06-BE60E115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BBFE-6DF5-461F-85A1-A7F3A60F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0E3A-5E77-461F-AC1F-6F5D2F58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A971-D6C4-4DF5-86EC-7528BD92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2012-8629-444D-B263-8BA1C9E4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B317-36D7-4134-BDD3-C6DAF04B0347}" type="datetime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77120"/>
            <a:ext cx="3962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1F98-37C4-4D11-9992-C7A1831D611E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日期占位符 3"/>
          <p:cNvSpPr/>
          <p:nvPr/>
        </p:nvSpPr>
        <p:spPr>
          <a:xfrm>
            <a:off x="380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1D41-C1A0-4A27-ACA4-3AA2DE40E7F1}" type="datetime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幻灯片编号占位符 5"/>
          <p:cNvSpPr/>
          <p:nvPr/>
        </p:nvSpPr>
        <p:spPr>
          <a:xfrm>
            <a:off x="68580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2D9E-4A27-41CF-B705-AFC96D66982D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xercis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请利用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Armstrong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公理系统证明下面的推导过程是否成立？如果不成立，请给出具体的例子关系。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W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, 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 }      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 { W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 }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 } and Z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Y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 {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 }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, 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W, WY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 }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 { 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 }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XY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, Y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W } 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 { XW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 }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, Y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 }     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 { 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 }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, XY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 }  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 { 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 }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, Z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W }   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 { XZ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W }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XY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, Z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X } 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 { Z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 }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, Y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 }    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 { 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Z }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XY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, Z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W }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 { 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W }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日期占位符 3"/>
          <p:cNvSpPr/>
          <p:nvPr/>
        </p:nvSpPr>
        <p:spPr>
          <a:xfrm>
            <a:off x="380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70EE-D3FC-480F-A1D4-4B7535A8F334}" type="datetime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幻灯片编号占位符 5"/>
          <p:cNvSpPr/>
          <p:nvPr/>
        </p:nvSpPr>
        <p:spPr>
          <a:xfrm>
            <a:off x="68580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D56B-35DB-4991-8A8D-E5494DAE41CA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xercis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请利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rmstro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公理系统证明下面的推导过程是否成立？如果不成立，请给出具体的例子关系。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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1. {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W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, 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 }      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 { W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 }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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2. {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 } and Z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Y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 {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 }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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3. {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, 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W, WY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 }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 { 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 }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4. {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XY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, Y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W } 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 { XW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 }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5. {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, Y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 }     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 { 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 }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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6. {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, XY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 }  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 { 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 }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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7. {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, Z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W }   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 { XZ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W }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8. {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XY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, Z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X } 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 { Z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 }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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9. {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, Y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 }    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 { 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Z }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10. {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XY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, Z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W }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 { 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W }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日期占位符 3"/>
          <p:cNvSpPr/>
          <p:nvPr/>
        </p:nvSpPr>
        <p:spPr>
          <a:xfrm>
            <a:off x="380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B9C6-93F9-4238-83BF-8BBAF41D3A15}" type="datetime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幻灯片编号占位符 5"/>
          <p:cNvSpPr/>
          <p:nvPr/>
        </p:nvSpPr>
        <p:spPr>
          <a:xfrm>
            <a:off x="68580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E584-2F21-4F2B-B565-08884831CB8C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533520" y="457200"/>
            <a:ext cx="8076960" cy="2057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答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{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W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Y, 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Z } 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{ W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Y }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广规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：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反规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：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传递规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：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X, Y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533520" y="2895480"/>
            <a:ext cx="8076960" cy="160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答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{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Y } and Z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Y 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{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Z 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成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自反规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Y 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Y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传递规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, Y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533520" y="4876920"/>
            <a:ext cx="8076960" cy="160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答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{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Y, 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W, WY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Z }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{ 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Z 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成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并规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, 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 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传递规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Y, WY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日期占位符 1"/>
          <p:cNvSpPr/>
          <p:nvPr/>
        </p:nvSpPr>
        <p:spPr>
          <a:xfrm>
            <a:off x="380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4C73-37D7-4B11-95D1-B53E831E5B27}" type="datetime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幻灯片编号占位符 3"/>
          <p:cNvSpPr/>
          <p:nvPr/>
        </p:nvSpPr>
        <p:spPr>
          <a:xfrm>
            <a:off x="68580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A0A7-94E2-457E-8788-774283C9F903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026"/>
          <p:cNvSpPr/>
          <p:nvPr/>
        </p:nvSpPr>
        <p:spPr>
          <a:xfrm>
            <a:off x="533520" y="380880"/>
            <a:ext cx="8153280" cy="1524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答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{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Y, XY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Z }   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{ 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Z }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广规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：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Y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即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传递规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：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Y, XY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Z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027"/>
          <p:cNvSpPr/>
          <p:nvPr/>
        </p:nvSpPr>
        <p:spPr>
          <a:xfrm>
            <a:off x="533520" y="2209680"/>
            <a:ext cx="8153280" cy="2057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答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{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Y, Z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W }    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{ XZ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YW 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成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广规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 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XZ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广规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 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YZ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传递规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Z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Z, YZ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W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Z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028"/>
          <p:cNvSpPr/>
          <p:nvPr/>
        </p:nvSpPr>
        <p:spPr>
          <a:xfrm>
            <a:off x="533520" y="4648320"/>
            <a:ext cx="8153280" cy="1523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答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{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Y, Y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Z }     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{ 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YZ 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成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传递规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, Y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并规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, 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日期占位符 1"/>
          <p:cNvSpPr/>
          <p:nvPr/>
        </p:nvSpPr>
        <p:spPr>
          <a:xfrm>
            <a:off x="380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A37F-D6D3-4316-9B59-460AF66D8D3E}" type="datetime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幻灯片编号占位符 3"/>
          <p:cNvSpPr/>
          <p:nvPr/>
        </p:nvSpPr>
        <p:spPr>
          <a:xfrm>
            <a:off x="68580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EBD4-B378-4187-9159-B97AF04E5303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85800" y="380880"/>
            <a:ext cx="7772400" cy="533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答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{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XY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Z, Y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W } 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{ XW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Z }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成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828800" y="1066680"/>
          <a:ext cx="3962520" cy="140832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  <a:gridCol w="990720"/>
                <a:gridCol w="990720"/>
              </a:tblGrid>
              <a:tr h="4694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694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Rectangle 35"/>
          <p:cNvSpPr/>
          <p:nvPr/>
        </p:nvSpPr>
        <p:spPr>
          <a:xfrm>
            <a:off x="685800" y="3657600"/>
            <a:ext cx="7772400" cy="533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答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{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Z, Y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Z } 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{ 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Y }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成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905120" y="4343400"/>
          <a:ext cx="3886200" cy="234648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640"/>
              </a:tblGrid>
              <a:tr h="4694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694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日期占位符 1"/>
          <p:cNvSpPr/>
          <p:nvPr/>
        </p:nvSpPr>
        <p:spPr>
          <a:xfrm>
            <a:off x="380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86F9-0384-4DA8-AE30-7FC31AD0EAFF}" type="datetime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幻灯片编号占位符 3"/>
          <p:cNvSpPr/>
          <p:nvPr/>
        </p:nvSpPr>
        <p:spPr>
          <a:xfrm>
            <a:off x="68580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1358-0D96-4C18-A7B3-BF0D090D9F5D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026"/>
          <p:cNvSpPr/>
          <p:nvPr/>
        </p:nvSpPr>
        <p:spPr>
          <a:xfrm>
            <a:off x="685800" y="380880"/>
            <a:ext cx="7772400" cy="533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答：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{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XY</a:t>
            </a:r>
            <a:r>
              <a:rPr b="1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Z, Z</a:t>
            </a:r>
            <a:r>
              <a:rPr b="1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X }   </a:t>
            </a:r>
            <a:r>
              <a:rPr b="1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  { Z</a:t>
            </a:r>
            <a:r>
              <a:rPr b="1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Y }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成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209680" y="1066680"/>
          <a:ext cx="4572000" cy="14083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4694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694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053"/>
          <p:cNvSpPr/>
          <p:nvPr/>
        </p:nvSpPr>
        <p:spPr>
          <a:xfrm>
            <a:off x="685800" y="3581280"/>
            <a:ext cx="7772400" cy="533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答：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{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XY</a:t>
            </a:r>
            <a:r>
              <a:rPr b="1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Z, Z</a:t>
            </a:r>
            <a:r>
              <a:rPr b="1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W }  </a:t>
            </a:r>
            <a:r>
              <a:rPr b="1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  { X</a:t>
            </a:r>
            <a:r>
              <a:rPr b="1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W }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成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133720" y="4199040"/>
          <a:ext cx="4800600" cy="1407960"/>
        </p:xfrm>
        <a:graphic>
          <a:graphicData uri="http://schemas.openxmlformats.org/drawingml/2006/table">
            <a:tbl>
              <a:tblPr/>
              <a:tblGrid>
                <a:gridCol w="1199880"/>
                <a:gridCol w="1200240"/>
                <a:gridCol w="1200240"/>
                <a:gridCol w="1200240"/>
              </a:tblGrid>
              <a:tr h="4694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694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i Hu</cp:lastModifiedBy>
  <dcterms:modified xsi:type="dcterms:W3CDTF">2013-12-18T01:41:42Z</dcterms:modified>
  <cp:revision>608</cp:revision>
  <dc:subject/>
  <dc:title>PowerPoint Presentation</dc:title>
</cp:coreProperties>
</file>