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09B0-4175-4460-ADAE-7676CC059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D1C8-7F7A-49C7-B5DF-4238B082C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8BF5-E476-409C-94CF-C644617A1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5FBD-F0BF-4267-B342-58800C6AE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181F-F3D4-41B1-9CA3-2298DB9BA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2DE3-A400-4ED3-A8F0-7EE15BD45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060D-AED2-4D89-88B4-F049EC5D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256B-A84B-4F74-A3F9-7805812BC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5268-4685-4DDD-A4C1-9F4AE796E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534F-AD12-462B-886C-0C573C0B3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7557-6885-4697-AC76-B7ECA2F6F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26D1-E995-4BCC-8022-25B252AAC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C6C-9CDF-4A65-B926-0E27BA67FCCA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705360"/>
            <a:ext cx="5029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据冗余度大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缺点：浪费存储空间，增加了数据更新的时间开销，容易出现修改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CAE4-3CD5-4005-9F88-4777F5D5FD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插入异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能有些元组插入操作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er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无法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BB32-B626-4129-98A7-45C10FCCA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220760"/>
          <a:ext cx="9144000" cy="516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0760"/>
                    <a:ext cx="914400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44280"/>
            <a:ext cx="8382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例如：假设允许插入一门尚未有学生选修的课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104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B, 103)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结果如下：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该结果关系将违反关于关系的“实体完整性约束”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1919-A2CE-4C2C-B1D6-E5E021BFF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删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异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能会连带删除掉一些其它信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2D42-137F-4BAC-B918-15C5371AB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5264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4948200"/>
            <a:ext cx="5219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995480"/>
            <a:ext cx="6734160" cy="1802160"/>
          </a:xfrm>
          <a:prstGeom prst="cloudCallout">
            <a:avLst>
              <a:gd name="adj1" fmla="val -31921"/>
              <a:gd name="adj2" fmla="val 109634"/>
            </a:avLst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设需要删除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3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世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S, 17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0AFC-ADBC-48BE-B59D-5A445408BF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05264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4943520"/>
            <a:ext cx="9144000" cy="647640"/>
          </a:xfrm>
          <a:prstGeom prst="ellipse">
            <a:avLst/>
          </a:prstGeom>
          <a:solidFill>
            <a:srgbClr val="eaeaea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1544760"/>
            <a:ext cx="7453440" cy="2076120"/>
          </a:xfrm>
          <a:prstGeom prst="cloudCallout">
            <a:avLst>
              <a:gd name="adj1" fmla="val -27555"/>
              <a:gd name="adj2" fmla="val 110087"/>
            </a:avLst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3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需要删除该学生所在的元组，结果会导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1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门课程的信息也一起被删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08EA-8BF4-46AB-BDFA-4DB4C22DC1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915840"/>
          <a:ext cx="9144000" cy="48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5840"/>
                    <a:ext cx="91440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结果关系中，再也找不到课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信息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82A2-8AA3-4A95-AEFB-161C4FA5F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方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建立的数据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898560"/>
          <a:ext cx="3809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98560"/>
                    <a:ext cx="3809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2280" y="3105000"/>
          <a:ext cx="3962520" cy="32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105000"/>
                    <a:ext cx="39625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898560"/>
          <a:ext cx="434340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898560"/>
                    <a:ext cx="4343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会再存在上述的三个方面的缺点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6E24-C0D8-46CF-91BE-EC70B67D9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b</cp:lastModifiedBy>
  <dcterms:modified xsi:type="dcterms:W3CDTF">2009-10-07T06:51:18Z</dcterms:modified>
  <cp:revision>815</cp:revision>
  <dc:subject/>
  <dc:title>PowerPoint Presentation</dc:title>
</cp:coreProperties>
</file>