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AEA4-BF14-4872-9D23-2739B012F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D65F-DE9C-4E27-9449-02C289B2F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5C55-1F2B-405A-A48B-129576BEC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561E-E1BB-4422-B12C-4AB9C8ACD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CD7C-65C2-487A-9ECD-8091C5EE8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333A-7F33-4843-A4CF-0770E5DC8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D1BA-EA2F-4D68-8FCF-7BD23D41D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350A-4703-485D-8880-EDB9DB49D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6C39-B6B8-4112-84D9-D4AF78FB6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853D-0671-45BE-AADF-A02982CFE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DE14-E68D-4AD6-B800-439E2C7D0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E9DB-EA87-4C7A-96F5-7926C5FC5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920" y="6597360"/>
            <a:ext cx="6121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7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年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部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IBM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精品课程—版权所有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C)-</a:t>
            </a: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大学计算机科学与技术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AEFA-30AC-47EC-A5A1-181EB46CB6F5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请用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  <a:ea typeface="宋体"/>
              </a:rPr>
              <a:t>E-R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模型表示该数据库系统的概念模型。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9DBF-AE8B-4C73-8B87-B11A37A7B6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-152280" y="38088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8088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360" y="404640"/>
          <a:ext cx="4494240" cy="21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4640"/>
                    <a:ext cx="449424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3809880"/>
          <a:ext cx="61722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6172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590920" y="1600200"/>
          <a:ext cx="2743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60020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590920" y="1752480"/>
            <a:ext cx="2819160" cy="366120"/>
            <a:chOff x="2590920" y="1752480"/>
            <a:chExt cx="2819160" cy="366120"/>
          </a:xfrm>
        </p:grpSpPr>
        <p:sp>
          <p:nvSpPr>
            <p:cNvPr id="122" name=""/>
            <p:cNvSpPr/>
            <p:nvPr/>
          </p:nvSpPr>
          <p:spPr>
            <a:xfrm>
              <a:off x="259092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17524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79280" y="2492280"/>
            <a:ext cx="5025960" cy="2595960"/>
            <a:chOff x="179280" y="2492280"/>
            <a:chExt cx="5025960" cy="2595960"/>
          </a:xfrm>
        </p:grpSpPr>
        <p:sp>
          <p:nvSpPr>
            <p:cNvPr id="125" name=""/>
            <p:cNvSpPr/>
            <p:nvPr/>
          </p:nvSpPr>
          <p:spPr>
            <a:xfrm>
              <a:off x="2614680" y="3559320"/>
              <a:ext cx="144756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76240" y="2492280"/>
              <a:ext cx="12956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81360" y="4168800"/>
              <a:ext cx="1523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80" y="3554280"/>
              <a:ext cx="183060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7280" y="4468680"/>
              <a:ext cx="1836720" cy="6195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28880" y="394020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386080" y="4168440"/>
              <a:ext cx="68580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56000" y="3157560"/>
            <a:ext cx="2209320" cy="1280520"/>
            <a:chOff x="2556000" y="3157560"/>
            <a:chExt cx="2209320" cy="1280520"/>
          </a:xfrm>
        </p:grpSpPr>
        <p:sp>
          <p:nvSpPr>
            <p:cNvPr id="133" name=""/>
            <p:cNvSpPr/>
            <p:nvPr/>
          </p:nvSpPr>
          <p:spPr>
            <a:xfrm>
              <a:off x="2556000" y="31575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1280" y="40719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1052640"/>
            <a:ext cx="7238880" cy="4784760"/>
            <a:chOff x="468360" y="1052640"/>
            <a:chExt cx="7238880" cy="4784760"/>
          </a:xfrm>
        </p:grpSpPr>
        <p:sp>
          <p:nvSpPr>
            <p:cNvPr id="136" name=""/>
            <p:cNvSpPr/>
            <p:nvPr/>
          </p:nvSpPr>
          <p:spPr>
            <a:xfrm>
              <a:off x="468360" y="12812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7680" y="12812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21240" y="120528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02280" y="495468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7560" y="5472360"/>
              <a:ext cx="609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64240" y="547236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1440" y="478656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2840" y="4177080"/>
              <a:ext cx="685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69160" y="105264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97760" y="2135520"/>
              <a:ext cx="609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2240" y="3430800"/>
              <a:ext cx="60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4497480"/>
              <a:ext cx="609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27BD-68A3-4F8B-86EE-7D6DA816895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268280"/>
            <a:ext cx="122400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844640"/>
            <a:ext cx="1224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781360"/>
            <a:ext cx="1656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E455-1B8F-45B3-9D3F-16899E1595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844640"/>
            <a:ext cx="640872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95640" y="2133720"/>
          <a:ext cx="4752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4752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468C-1764-4388-AEEC-15C0D1175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349360"/>
            <a:ext cx="792000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2795760"/>
            <a:ext cx="7993080" cy="712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997360"/>
          <a:ext cx="669780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6697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C45F-9D76-400D-8D4E-A97749C3B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具有唯一性，每个读者只能有一个借书证号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、姓名、身份证号、住址、电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284640"/>
            <a:ext cx="7920000" cy="712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95640" y="3933720"/>
          <a:ext cx="55432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933720"/>
                    <a:ext cx="55432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3716280"/>
            <a:ext cx="151308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8B5F-EE10-4D73-892B-0D92251511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1341360"/>
            <a:ext cx="1728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5280" y="1844640"/>
            <a:ext cx="100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7004-B5CF-4322-96A5-E3B82D0E3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920" y="838080"/>
            <a:ext cx="907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844640"/>
            <a:ext cx="5759640" cy="7164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11240" y="380376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240" y="380376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757760" y="3827520"/>
          <a:ext cx="449424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7760" y="3827520"/>
                    <a:ext cx="44942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627280" y="5013360"/>
          <a:ext cx="2743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5013360"/>
                    <a:ext cx="2743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2631960" y="5175360"/>
            <a:ext cx="2819160" cy="366120"/>
            <a:chOff x="2631960" y="5175360"/>
            <a:chExt cx="2819160" cy="366120"/>
          </a:xfrm>
        </p:grpSpPr>
        <p:sp>
          <p:nvSpPr>
            <p:cNvPr id="78" name=""/>
            <p:cNvSpPr/>
            <p:nvPr/>
          </p:nvSpPr>
          <p:spPr>
            <a:xfrm>
              <a:off x="2631960" y="5175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6720" y="51753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E6CD-140B-4FE3-B24F-77C0071FC8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1628640"/>
            <a:ext cx="777564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2060640"/>
            <a:ext cx="280836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-181080" y="285264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85264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152880" y="4005360"/>
          <a:ext cx="617220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2880" y="400536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2627280" y="3429000"/>
            <a:ext cx="3730680" cy="1437840"/>
            <a:chOff x="2627280" y="3429000"/>
            <a:chExt cx="3730680" cy="1437840"/>
          </a:xfrm>
        </p:grpSpPr>
        <p:sp>
          <p:nvSpPr>
            <p:cNvPr id="88" name=""/>
            <p:cNvSpPr/>
            <p:nvPr/>
          </p:nvSpPr>
          <p:spPr>
            <a:xfrm>
              <a:off x="4140000" y="3429000"/>
              <a:ext cx="1447920" cy="76176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627280" y="3787200"/>
              <a:ext cx="151272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5600" y="3787560"/>
              <a:ext cx="792360" cy="1079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336840" y="3998880"/>
            <a:ext cx="2747880" cy="439200"/>
            <a:chOff x="3336840" y="3998880"/>
            <a:chExt cx="2747880" cy="439200"/>
          </a:xfrm>
        </p:grpSpPr>
        <p:sp>
          <p:nvSpPr>
            <p:cNvPr id="92" name=""/>
            <p:cNvSpPr/>
            <p:nvPr/>
          </p:nvSpPr>
          <p:spPr>
            <a:xfrm>
              <a:off x="3336840" y="407196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70320" y="399888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" y="115920"/>
            <a:ext cx="9074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5DCB-E2D8-4FE8-BDD1-3182068C0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132000" y="4005360"/>
          <a:ext cx="6172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005360"/>
                    <a:ext cx="6172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563920"/>
            <a:ext cx="7775640" cy="73080"/>
          </a:xfrm>
          <a:custGeom>
            <a:avLst/>
            <a:gdLst/>
            <a:ahLst/>
            <a:rect l="l" t="t" r="r" b="b"/>
            <a:pathLst>
              <a:path w="3629" h="53">
                <a:moveTo>
                  <a:pt x="46" y="8"/>
                </a:moveTo>
                <a:cubicBezTo>
                  <a:pt x="23" y="8"/>
                  <a:pt x="0" y="8"/>
                  <a:pt x="91" y="8"/>
                </a:cubicBezTo>
                <a:cubicBezTo>
                  <a:pt x="182" y="8"/>
                  <a:pt x="424" y="8"/>
                  <a:pt x="590" y="8"/>
                </a:cubicBezTo>
                <a:cubicBezTo>
                  <a:pt x="756" y="8"/>
                  <a:pt x="961" y="1"/>
                  <a:pt x="1089" y="8"/>
                </a:cubicBezTo>
                <a:cubicBezTo>
                  <a:pt x="1217" y="15"/>
                  <a:pt x="1270" y="53"/>
                  <a:pt x="1361" y="53"/>
                </a:cubicBezTo>
                <a:cubicBezTo>
                  <a:pt x="1452" y="53"/>
                  <a:pt x="1542" y="8"/>
                  <a:pt x="1633" y="8"/>
                </a:cubicBezTo>
                <a:cubicBezTo>
                  <a:pt x="1724" y="8"/>
                  <a:pt x="1822" y="53"/>
                  <a:pt x="1905" y="53"/>
                </a:cubicBezTo>
                <a:cubicBezTo>
                  <a:pt x="1988" y="53"/>
                  <a:pt x="2056" y="8"/>
                  <a:pt x="2132" y="8"/>
                </a:cubicBezTo>
                <a:cubicBezTo>
                  <a:pt x="2208" y="8"/>
                  <a:pt x="2283" y="53"/>
                  <a:pt x="2359" y="53"/>
                </a:cubicBezTo>
                <a:cubicBezTo>
                  <a:pt x="2435" y="53"/>
                  <a:pt x="2518" y="8"/>
                  <a:pt x="2586" y="8"/>
                </a:cubicBezTo>
                <a:cubicBezTo>
                  <a:pt x="2654" y="8"/>
                  <a:pt x="2692" y="53"/>
                  <a:pt x="2767" y="53"/>
                </a:cubicBezTo>
                <a:cubicBezTo>
                  <a:pt x="2842" y="53"/>
                  <a:pt x="2956" y="8"/>
                  <a:pt x="3039" y="8"/>
                </a:cubicBezTo>
                <a:cubicBezTo>
                  <a:pt x="3122" y="8"/>
                  <a:pt x="3206" y="53"/>
                  <a:pt x="3266" y="53"/>
                </a:cubicBezTo>
                <a:cubicBezTo>
                  <a:pt x="3326" y="53"/>
                  <a:pt x="3342" y="16"/>
                  <a:pt x="3402" y="8"/>
                </a:cubicBezTo>
                <a:cubicBezTo>
                  <a:pt x="3462" y="0"/>
                  <a:pt x="3584" y="8"/>
                  <a:pt x="3629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181080" y="2852640"/>
          <a:ext cx="38862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285264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2627280" y="4076640"/>
            <a:ext cx="2881440" cy="942480"/>
            <a:chOff x="2627280" y="4076640"/>
            <a:chExt cx="2881440" cy="942480"/>
          </a:xfrm>
        </p:grpSpPr>
        <p:sp>
          <p:nvSpPr>
            <p:cNvPr id="102" name=""/>
            <p:cNvSpPr/>
            <p:nvPr/>
          </p:nvSpPr>
          <p:spPr>
            <a:xfrm>
              <a:off x="3419640" y="4076640"/>
              <a:ext cx="1447560" cy="762120"/>
            </a:xfrm>
            <a:prstGeom prst="diamond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借 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627280" y="4436640"/>
              <a:ext cx="8650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4437000"/>
              <a:ext cx="64944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00360" y="46530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27640" y="46530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924360" y="2952000"/>
            <a:ext cx="3095640" cy="1340640"/>
            <a:chOff x="3924360" y="2952000"/>
            <a:chExt cx="3095640" cy="1340640"/>
          </a:xfrm>
        </p:grpSpPr>
        <p:sp>
          <p:nvSpPr>
            <p:cNvPr id="108" name=""/>
            <p:cNvSpPr/>
            <p:nvPr/>
          </p:nvSpPr>
          <p:spPr>
            <a:xfrm>
              <a:off x="3924360" y="2952000"/>
              <a:ext cx="1830240" cy="61956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借阅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3280" y="3599640"/>
              <a:ext cx="1836720" cy="61956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归还日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572000" y="4005360"/>
              <a:ext cx="614520" cy="287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356000" y="3573000"/>
              <a:ext cx="432000" cy="576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920" y="115920"/>
            <a:ext cx="9074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图书被借阅的借阅日期和归还日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23C9-FACA-4CA8-8939-9F02FE055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7T05:28:13Z</dcterms:modified>
  <cp:revision>715</cp:revision>
  <dc:subject/>
  <dc:title>PowerPoint Presentation</dc:title>
</cp:coreProperties>
</file>