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8AEC4-289E-494E-BDDD-1E8B4D4E09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3640"/>
            <a:ext cx="7772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A4E5D-A294-4B54-82BD-2640770524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838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364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364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BF525-3380-4897-BFBC-F870B845DB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83808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83808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364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364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364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3FFDF-2E6D-4F98-A147-BFB632762B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1CA63-75FA-48E8-BC52-33E64EF752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87D84-3774-453D-957F-7570253FED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3792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838080"/>
            <a:ext cx="3792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09416-C63D-4A62-B0AF-5727CD3A2A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CA62B-10BA-4AC8-BEF0-A11AAC5F01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CA5BC-CF37-416E-B605-87985AB864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838080"/>
            <a:ext cx="3792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364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69D1F-443B-4F95-BC86-D351E22ED3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3792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838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364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548D8-59ED-4FFB-9102-71DB064DBB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48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838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3640"/>
            <a:ext cx="7772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67EE8-C1A6-4FDA-8152-8ACDBF4C53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629040"/>
            <a:ext cx="502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1625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EBB5-77D4-439D-900E-D514719582BC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se Study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609120"/>
            <a:ext cx="9144000" cy="624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假设需要建立一个有关俱乐部篮球联赛的信息管理系统，需要保存的信息有：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18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每个俱乐部的名称（具有唯一性）及其所在城市名称；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18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每个体育馆的名称（具有唯一性）及其地址；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18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每个篮球运动员的姓名（具有唯一性），出生日期，身高，体重，位置（中锋，前锋或后卫）。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页脚占位符 3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灯片编号占位符 4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90A6-1688-4AFA-A236-6D7A21A19F99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se Study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609120"/>
            <a:ext cx="9144000" cy="624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系统需要记录：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18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每场比赛的主队、客队、比赛时间和最终比分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；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18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每一位球员在每一场比赛中的出场时间、得分、篮板数、助攻次数、抢断次数、失误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次数、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犯规次数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技术犯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次数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；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18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每个球员签约俱乐部的时间（开始日期和结束日期）及其球衣号码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。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页脚占位符 3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灯片编号占位符 4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16B2-D35E-4DF5-8D83-0AB76CBA1A9C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se Study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609120"/>
            <a:ext cx="9144000" cy="624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其中的数据约束有：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18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每支俱乐部有唯一的一个主体育馆，一个体育馆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只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可以用做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支俱乐部的主体育馆；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18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每个球员可以在不同的时间签约不同的俱乐部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。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18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请给出该数据库系统的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-R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模型图。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页脚占位符 3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灯片编号占位符 4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CE32-3400-4BD5-AEDA-BDC0513B5CEB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se Study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691920"/>
            <a:ext cx="9144000" cy="61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系统中的实体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球员，俱乐部，体育馆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比赛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系统中的联系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俱乐部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使用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体育馆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俱乐部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签约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球    员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俱乐部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主队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比    赛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俱乐部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客队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比    赛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球    员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参加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比    赛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页脚占位符 3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灯片编号占位符 4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2403-6674-4D73-8811-6C66269A9BD8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1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灯片编号占位符 2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8224-F8D6-4134-B0F3-8340E1DFE18B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27"/>
          <p:cNvGraphicFramePr/>
          <p:nvPr/>
        </p:nvGraphicFramePr>
        <p:xfrm>
          <a:off x="179280" y="200160"/>
          <a:ext cx="3667320" cy="200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00160"/>
                    <a:ext cx="3667320" cy="20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28"/>
          <p:cNvGraphicFramePr/>
          <p:nvPr/>
        </p:nvGraphicFramePr>
        <p:xfrm>
          <a:off x="4140360" y="76320"/>
          <a:ext cx="4932360" cy="227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" name="Object 2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40360" y="76320"/>
                    <a:ext cx="4932360" cy="22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31"/>
          <p:cNvGraphicFramePr/>
          <p:nvPr/>
        </p:nvGraphicFramePr>
        <p:xfrm>
          <a:off x="79200" y="2682720"/>
          <a:ext cx="3988080" cy="3522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Object 3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9200" y="2682720"/>
                    <a:ext cx="3988080" cy="35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33"/>
          <p:cNvGraphicFramePr/>
          <p:nvPr/>
        </p:nvGraphicFramePr>
        <p:xfrm>
          <a:off x="4975200" y="3213000"/>
          <a:ext cx="3686040" cy="2519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7" name="Object 3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75200" y="3213000"/>
                    <a:ext cx="3686040" cy="25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1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灯片编号占位符 2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1230-6AAC-4ED4-8CDC-ADFC8DC5CC03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Object 29"/>
          <p:cNvGraphicFramePr/>
          <p:nvPr/>
        </p:nvGraphicFramePr>
        <p:xfrm>
          <a:off x="1835280" y="476280"/>
          <a:ext cx="5040360" cy="95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476280"/>
                    <a:ext cx="504036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32"/>
          <p:cNvGraphicFramePr/>
          <p:nvPr/>
        </p:nvGraphicFramePr>
        <p:xfrm>
          <a:off x="1476360" y="1125360"/>
          <a:ext cx="6480360" cy="4464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360" y="1125360"/>
                    <a:ext cx="6480360" cy="44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TextBox 12"/>
          <p:cNvSpPr/>
          <p:nvPr/>
        </p:nvSpPr>
        <p:spPr>
          <a:xfrm>
            <a:off x="250920" y="692280"/>
            <a:ext cx="1584360" cy="520560"/>
          </a:xfrm>
          <a:prstGeom prst="rect">
            <a:avLst/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体育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6875640" y="692280"/>
            <a:ext cx="1584000" cy="520560"/>
          </a:xfrm>
          <a:prstGeom prst="rect">
            <a:avLst/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俱乐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14"/>
          <p:cNvSpPr/>
          <p:nvPr/>
        </p:nvSpPr>
        <p:spPr>
          <a:xfrm>
            <a:off x="250920" y="3409920"/>
            <a:ext cx="1584360" cy="520560"/>
          </a:xfrm>
          <a:prstGeom prst="rect">
            <a:avLst/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运动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页脚占位符 1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灯片编号占位符 2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B257-6B72-4C0F-9F03-A578CC3528B4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34"/>
          <p:cNvGraphicFramePr/>
          <p:nvPr/>
        </p:nvGraphicFramePr>
        <p:xfrm>
          <a:off x="2411280" y="1125360"/>
          <a:ext cx="3961080" cy="468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Object 3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1125360"/>
                    <a:ext cx="396108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Box 13"/>
          <p:cNvSpPr/>
          <p:nvPr/>
        </p:nvSpPr>
        <p:spPr>
          <a:xfrm>
            <a:off x="3492360" y="692280"/>
            <a:ext cx="1584360" cy="520560"/>
          </a:xfrm>
          <a:prstGeom prst="rect">
            <a:avLst/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俱乐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15"/>
          <p:cNvSpPr/>
          <p:nvPr/>
        </p:nvSpPr>
        <p:spPr>
          <a:xfrm>
            <a:off x="3492360" y="5570640"/>
            <a:ext cx="1584360" cy="520560"/>
          </a:xfrm>
          <a:prstGeom prst="rect">
            <a:avLst/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  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1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灯片编号占位符 2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4832-21E1-40B4-B09E-5EDA9D9403E8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Object 35"/>
          <p:cNvGraphicFramePr/>
          <p:nvPr/>
        </p:nvGraphicFramePr>
        <p:xfrm>
          <a:off x="0" y="1268280"/>
          <a:ext cx="9144000" cy="551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Object 3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68280"/>
                    <a:ext cx="914400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Box 13"/>
          <p:cNvSpPr/>
          <p:nvPr/>
        </p:nvSpPr>
        <p:spPr>
          <a:xfrm>
            <a:off x="6875640" y="2330280"/>
            <a:ext cx="1584000" cy="520560"/>
          </a:xfrm>
          <a:prstGeom prst="rect">
            <a:avLst/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  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14"/>
          <p:cNvSpPr/>
          <p:nvPr/>
        </p:nvSpPr>
        <p:spPr>
          <a:xfrm>
            <a:off x="1258920" y="765000"/>
            <a:ext cx="1584360" cy="520560"/>
          </a:xfrm>
          <a:prstGeom prst="rect">
            <a:avLst/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运动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1"/>
          <p:cNvSpPr/>
          <p:nvPr/>
        </p:nvSpPr>
        <p:spPr>
          <a:xfrm>
            <a:off x="0" y="662940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—版权所有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C)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灯片编号占位符 2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0514-3A0B-4C53-ADFC-F250BB89EBBC}" type="slidenum">
              <a:rPr b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Object 27"/>
          <p:cNvGraphicFramePr/>
          <p:nvPr/>
        </p:nvGraphicFramePr>
        <p:xfrm>
          <a:off x="604800" y="200160"/>
          <a:ext cx="2360520" cy="129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4800" y="200160"/>
                    <a:ext cx="236052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28"/>
          <p:cNvGraphicFramePr/>
          <p:nvPr/>
        </p:nvGraphicFramePr>
        <p:xfrm>
          <a:off x="5737320" y="76320"/>
          <a:ext cx="3149640" cy="1450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Object 2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37320" y="76320"/>
                    <a:ext cx="3149640" cy="14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29"/>
          <p:cNvGraphicFramePr/>
          <p:nvPr/>
        </p:nvGraphicFramePr>
        <p:xfrm>
          <a:off x="2444760" y="927000"/>
          <a:ext cx="4135320" cy="644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0" name="Object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44760" y="927000"/>
                    <a:ext cx="413532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31"/>
          <p:cNvGraphicFramePr/>
          <p:nvPr/>
        </p:nvGraphicFramePr>
        <p:xfrm>
          <a:off x="79200" y="1944720"/>
          <a:ext cx="2557800" cy="2259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2" name="Object 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9200" y="1944720"/>
                    <a:ext cx="255780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32"/>
          <p:cNvGraphicFramePr/>
          <p:nvPr/>
        </p:nvGraphicFramePr>
        <p:xfrm>
          <a:off x="2314440" y="1197000"/>
          <a:ext cx="4529160" cy="2990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4" name="Object 3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314440" y="1197000"/>
                    <a:ext cx="452916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33"/>
          <p:cNvGraphicFramePr/>
          <p:nvPr/>
        </p:nvGraphicFramePr>
        <p:xfrm>
          <a:off x="6783480" y="3643200"/>
          <a:ext cx="2360520" cy="1614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6" name="Object 3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783480" y="3643200"/>
                    <a:ext cx="2360520" cy="16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34"/>
          <p:cNvGraphicFramePr/>
          <p:nvPr/>
        </p:nvGraphicFramePr>
        <p:xfrm>
          <a:off x="5869080" y="1322280"/>
          <a:ext cx="2754360" cy="2907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8" name="Object 3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869080" y="1322280"/>
                    <a:ext cx="2754360" cy="29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35"/>
          <p:cNvGraphicFramePr/>
          <p:nvPr/>
        </p:nvGraphicFramePr>
        <p:xfrm>
          <a:off x="1000080" y="3067200"/>
          <a:ext cx="7097760" cy="37144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0" name="Object 35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000080" y="3067200"/>
                    <a:ext cx="7097760" cy="37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kw</cp:lastModifiedBy>
  <dcterms:modified xsi:type="dcterms:W3CDTF">2011-09-01T04:42:54Z</dcterms:modified>
  <cp:revision>757</cp:revision>
  <dc:subject/>
  <dc:title>PowerPoint Presentation</dc:title>
</cp:coreProperties>
</file>