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2939-0B16-48BF-B5AB-021D2AB3D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D674-6EAE-4CDA-977D-08DECCD7F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3E96-DCA6-490F-9C25-3E92AAA47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3CAC-4BA9-4ECB-8A5F-A4F318C8F5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E49A-16E5-445E-A225-6E768AC08F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C168-11A8-4E8B-8F35-80C4018C6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F14E-EBA0-4875-A2B8-341464C14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6393-0F1E-4BE1-BEA6-A4F8EB2E7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2A4E-6305-4C7C-9AF5-CEDD08CBD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CDE7-A6AD-4914-8F96-3D73C5311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E515-5391-4D37-9CAD-4EFDFA975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4EDF-82E1-4E4E-94DA-88CE532B6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7431-B071-4071-A028-58CC103EB69D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数据库设计示例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67D2-4239-4C0B-8031-D2B20F7E211A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假设需要建立一个关于某旅行社的旅游信息管理系统，其数据库中的信息有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景点的编号（具有唯一性）和名称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旅游线路的编号（具有唯一性）和线路名称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导游的工号（具有唯一性）和姓名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其中：每条线路由多个景点组成，不同线路的景点存在交叉；每条线路有多名导游，但每名导游只负责一条线路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请设计出该数据库的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E-R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模型图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68360" y="1197000"/>
            <a:ext cx="2277720" cy="1511280"/>
            <a:chOff x="468360" y="1197000"/>
            <a:chExt cx="2277720" cy="1511280"/>
          </a:xfrm>
        </p:grpSpPr>
        <p:sp>
          <p:nvSpPr>
            <p:cNvPr id="44" name=""/>
            <p:cNvSpPr/>
            <p:nvPr/>
          </p:nvSpPr>
          <p:spPr>
            <a:xfrm>
              <a:off x="2139120" y="119700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景 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8360" y="1339920"/>
              <a:ext cx="1224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编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70160" y="2060640"/>
              <a:ext cx="1224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92360" y="1627200"/>
              <a:ext cx="43200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692360" y="1987200"/>
              <a:ext cx="43200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859280" y="189000"/>
            <a:ext cx="3024360" cy="2522520"/>
            <a:chOff x="4859280" y="189000"/>
            <a:chExt cx="3024360" cy="2522520"/>
          </a:xfrm>
        </p:grpSpPr>
        <p:sp>
          <p:nvSpPr>
            <p:cNvPr id="50" name=""/>
            <p:cNvSpPr/>
            <p:nvPr/>
          </p:nvSpPr>
          <p:spPr>
            <a:xfrm>
              <a:off x="6037560" y="120024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线 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59280" y="18900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  <a:ea typeface="宋体"/>
                </a:rPr>
                <a:t>线路编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3640" y="19080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线路名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443640" y="695520"/>
              <a:ext cx="504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96000" y="695520"/>
              <a:ext cx="50328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771640" y="1538640"/>
            <a:ext cx="3240000" cy="732240"/>
            <a:chOff x="2771640" y="1538640"/>
            <a:chExt cx="3240000" cy="732240"/>
          </a:xfrm>
        </p:grpSpPr>
        <p:sp>
          <p:nvSpPr>
            <p:cNvPr id="56" name=""/>
            <p:cNvSpPr/>
            <p:nvPr/>
          </p:nvSpPr>
          <p:spPr>
            <a:xfrm>
              <a:off x="3492360" y="15386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组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71640" y="191916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74920" y="191916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16000" y="15588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8000" y="15588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580000" y="2781360"/>
            <a:ext cx="1555560" cy="1871280"/>
            <a:chOff x="5580000" y="2781360"/>
            <a:chExt cx="1555560" cy="1871280"/>
          </a:xfrm>
        </p:grpSpPr>
        <p:sp>
          <p:nvSpPr>
            <p:cNvPr id="62" name=""/>
            <p:cNvSpPr/>
            <p:nvPr/>
          </p:nvSpPr>
          <p:spPr>
            <a:xfrm>
              <a:off x="5580000" y="33008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讲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298920" y="400500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6370560" y="278136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2560" y="407844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95640" y="299736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06200" y="609300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模型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788000" y="4628880"/>
            <a:ext cx="3023640" cy="1608480"/>
            <a:chOff x="4788000" y="4628880"/>
            <a:chExt cx="3023640" cy="1608480"/>
          </a:xfrm>
        </p:grpSpPr>
        <p:sp>
          <p:nvSpPr>
            <p:cNvPr id="69" name=""/>
            <p:cNvSpPr/>
            <p:nvPr/>
          </p:nvSpPr>
          <p:spPr>
            <a:xfrm>
              <a:off x="5652720" y="4628880"/>
              <a:ext cx="1295280" cy="59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导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88000" y="5730840"/>
              <a:ext cx="1439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  <a:ea typeface="宋体"/>
                </a:rPr>
                <a:t>工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72000" y="5732640"/>
              <a:ext cx="1439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姓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72000" y="5229360"/>
              <a:ext cx="57600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652720" y="5229360"/>
              <a:ext cx="57456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2-28T08:23:44Z</dcterms:modified>
  <cp:revision>657</cp:revision>
  <dc:subject/>
  <dc:title>PowerPoint Presentation</dc:title>
</cp:coreProperties>
</file>