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C0BC-FBA7-4E32-BB4F-5087C59E0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E7D5-EECA-4CE7-B034-CE2F5A443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A415-DDBC-4D56-A4EE-B8401E2DF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E862-24CC-4E67-B74D-A8ED648FBE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70BE-AC6A-4200-A873-43B4586D6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5509-CA65-4A85-85DE-8C4FC91F3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186D-4D3B-4287-A339-7D215ECAE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9CA4-9D1F-45EE-8012-6BDCD5E96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6326-81E2-4C39-ADDF-7F92461FB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C7CC-4744-44F4-B5E0-FC17472FA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7FA6-D7B6-4AC0-9E45-BECADC55E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EBD8-16CE-4137-8B57-BEA723D91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943D-4086-4A50-B188-B92F821267F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5]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假设需要建立一个学校的信息管理系统，其中需要保存的信息有：学生的学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姓名，性别，所在的系和修读的专业；教师的工作证编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姓名，职称和出生日期；课程的编号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名称，类别代码和学分数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一门课程可以分若干个班上课，每个班有一个主讲教师；学生在选课时必须确定其所选课程的任课教师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即在由该教师担任主讲任务的班级上听课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，系统需要记录学生的选课信息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所选课程以及该课程的主讲教师、选修时间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年份和学期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和成绩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3CFE-1100-4E08-811C-9C71992E06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模型的设计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-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设计方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0" y="990720"/>
          <a:ext cx="91440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C4E7-3AE2-42AE-8C98-75F02389D7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模型的设计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-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设计方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-98280" y="1066680"/>
          <a:ext cx="934236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8280" y="1066680"/>
                    <a:ext cx="93423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1508-42A2-4D4E-93FD-122015483A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26T15:36:11Z</dcterms:modified>
  <cp:revision>630</cp:revision>
  <dc:subject/>
  <dc:title>PowerPoint Presentation</dc:title>
</cp:coreProperties>
</file>