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D7D-F0F3-4421-A8FF-E482878A3D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幻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5FA7-B029-4605-8166-01039791313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幻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0EB-BBA5-4A1F-84D3-1B8281E42CE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多端是‘全参与’：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</a:rPr>
              <a:t>可以将联系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</a:rPr>
              <a:t>与实体集合并，转换成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</a:rPr>
              <a:t>个关系模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幻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4775-80F2-4C4D-97E6-0B4810EBA82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多对多转换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个关系模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幻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CAB4-4174-4BDE-9B86-4BF96970084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9781-F482-4B98-9AC9-A6FC6D07A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B49C-71E0-4D74-8426-7176003FA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0932-3EB7-439D-AD3E-669BC0E6D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5576-4B40-4AAD-8691-299613916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FAEC-FF3F-4F93-A40B-BD5389710C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808A-B268-46E2-93D8-DE8B01266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88C0-B247-4EF1-A9C9-A3A4D114B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1C36-6A8E-4D04-8146-495E1712F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1571-3E6F-4843-A81D-AAAD8669F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8305-FFFA-4125-AA6A-9B3A4D1F4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B292-F018-4E6C-AFCE-3537737A8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4E03-BC48-4AD9-AA5C-8812096B5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460-89F7-4FB6-B3DC-1FA936FB224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4FF3-A9CF-41A0-A85E-370B5259FA1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每个读者只有唯一的一个住址，但可以登记多个不同的联系电话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那么针对上述的‘读者’关系，请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80D-617A-4B17-81CE-16819A6CEFB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→姓名，身份证号，住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身份证号→借书证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借书证号，电话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身份证号，电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联系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7070-1B5C-4E2E-B6C7-E2CA67E2458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对上述的‘借阅’关系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0C95-799D-4FF1-9FDE-5C8DCF174D8F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212-7C22-44B1-8545-6AB76932243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]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、出版社名称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（具有唯一性，每个读者只能有一个借书证号）、姓名、身份证号、住址、电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每本图书被借阅的借阅日期和归还日期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模型表示该数据库系统的概念模型，并将其转换成等价的关系模式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891-4F8B-4DAD-BB1C-F9E985653D1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3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2819520" y="3809880"/>
          <a:ext cx="61722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6172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6"/>
          <p:cNvGraphicFramePr/>
          <p:nvPr/>
        </p:nvGraphicFramePr>
        <p:xfrm>
          <a:off x="2590920" y="1600200"/>
          <a:ext cx="2743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160020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Group 21"/>
          <p:cNvGrpSpPr/>
          <p:nvPr/>
        </p:nvGrpSpPr>
        <p:grpSpPr>
          <a:xfrm>
            <a:off x="2590920" y="1752480"/>
            <a:ext cx="2819160" cy="366120"/>
            <a:chOff x="2590920" y="1752480"/>
            <a:chExt cx="2819160" cy="366120"/>
          </a:xfrm>
        </p:grpSpPr>
        <p:sp>
          <p:nvSpPr>
            <p:cNvPr id="61" name="Text Box 7"/>
            <p:cNvSpPr/>
            <p:nvPr/>
          </p:nvSpPr>
          <p:spPr>
            <a:xfrm>
              <a:off x="259092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449568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8"/>
          <p:cNvGrpSpPr/>
          <p:nvPr/>
        </p:nvGrpSpPr>
        <p:grpSpPr>
          <a:xfrm>
            <a:off x="155520" y="2438280"/>
            <a:ext cx="5025960" cy="2595960"/>
            <a:chOff x="155520" y="2438280"/>
            <a:chExt cx="5025960" cy="2595960"/>
          </a:xfrm>
        </p:grpSpPr>
        <p:sp>
          <p:nvSpPr>
            <p:cNvPr id="64" name="AutoShape 9"/>
            <p:cNvSpPr/>
            <p:nvPr/>
          </p:nvSpPr>
          <p:spPr>
            <a:xfrm>
              <a:off x="2590920" y="3505320"/>
              <a:ext cx="144756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1752480" y="2438280"/>
              <a:ext cx="12956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3657600" y="4114800"/>
              <a:ext cx="1523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155520" y="3500280"/>
              <a:ext cx="183060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533520" y="4414680"/>
              <a:ext cx="183672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1905120" y="388620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 flipV="1">
              <a:off x="2362320" y="4114440"/>
              <a:ext cx="68580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22"/>
          <p:cNvGrpSpPr/>
          <p:nvPr/>
        </p:nvGrpSpPr>
        <p:grpSpPr>
          <a:xfrm>
            <a:off x="2666880" y="3063960"/>
            <a:ext cx="2210040" cy="1280520"/>
            <a:chOff x="2666880" y="3063960"/>
            <a:chExt cx="2210040" cy="1280520"/>
          </a:xfrm>
        </p:grpSpPr>
        <p:sp>
          <p:nvSpPr>
            <p:cNvPr id="72" name="Text Box 19"/>
            <p:cNvSpPr/>
            <p:nvPr/>
          </p:nvSpPr>
          <p:spPr>
            <a:xfrm>
              <a:off x="2666880" y="30639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3962520" y="3978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E6A2-5279-4404-A42A-899BFA914F1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0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3072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0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073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0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2082"/>
          <p:cNvSpPr/>
          <p:nvPr/>
        </p:nvSpPr>
        <p:spPr>
          <a:xfrm>
            <a:off x="533520" y="3395520"/>
            <a:ext cx="8153280" cy="131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书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出版社名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联系电话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83"/>
          <p:cNvSpPr/>
          <p:nvPr/>
        </p:nvSpPr>
        <p:spPr>
          <a:xfrm>
            <a:off x="533520" y="48909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’和‘出版社’各自转换得到的关系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F167-1BE2-4F96-8224-A252A37CF65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4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533520" y="3395520"/>
            <a:ext cx="8153280" cy="131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书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（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</a:rPr>
              <a:t>出版社名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联系电话，地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48909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’和‘出版社’各自转换得到的关系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590920" y="1600200"/>
            <a:ext cx="2819160" cy="1143000"/>
            <a:chOff x="2590920" y="1600200"/>
            <a:chExt cx="2819160" cy="1143000"/>
          </a:xfrm>
        </p:grpSpPr>
        <p:graphicFrame>
          <p:nvGraphicFramePr>
            <p:cNvPr id="91" name="Object 8"/>
            <p:cNvGraphicFramePr/>
            <p:nvPr/>
          </p:nvGraphicFramePr>
          <p:xfrm>
            <a:off x="2590920" y="1600200"/>
            <a:ext cx="2743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1600200"/>
                      <a:ext cx="2743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3" name="Group 9"/>
            <p:cNvGrpSpPr/>
            <p:nvPr/>
          </p:nvGrpSpPr>
          <p:grpSpPr>
            <a:xfrm>
              <a:off x="2590920" y="1752480"/>
              <a:ext cx="2819160" cy="366120"/>
              <a:chOff x="2590920" y="1752480"/>
              <a:chExt cx="2819160" cy="366120"/>
            </a:xfrm>
          </p:grpSpPr>
          <p:sp>
            <p:nvSpPr>
              <p:cNvPr id="94" name="Text Box 10"/>
              <p:cNvSpPr/>
              <p:nvPr/>
            </p:nvSpPr>
            <p:spPr>
              <a:xfrm>
                <a:off x="259092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Text Box 11"/>
              <p:cNvSpPr/>
              <p:nvPr/>
            </p:nvSpPr>
            <p:spPr>
              <a:xfrm>
                <a:off x="449568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C2E-95CE-4C53-ABF0-2E25BC5D0142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043"/>
          <p:cNvGrpSpPr/>
          <p:nvPr/>
        </p:nvGrpSpPr>
        <p:grpSpPr>
          <a:xfrm>
            <a:off x="533520" y="3352680"/>
            <a:ext cx="8153280" cy="1830240"/>
            <a:chOff x="533520" y="3352680"/>
            <a:chExt cx="8153280" cy="1830240"/>
          </a:xfrm>
        </p:grpSpPr>
        <p:sp>
          <p:nvSpPr>
            <p:cNvPr id="99" name="Text Box 1035"/>
            <p:cNvSpPr/>
            <p:nvPr/>
          </p:nvSpPr>
          <p:spPr>
            <a:xfrm>
              <a:off x="533520" y="4662360"/>
              <a:ext cx="8153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加入‘出版’联系后的关系模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040"/>
            <p:cNvSpPr/>
            <p:nvPr/>
          </p:nvSpPr>
          <p:spPr>
            <a:xfrm>
              <a:off x="533520" y="3352680"/>
              <a:ext cx="8153280" cy="131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图书（</a:t>
              </a:r>
              <a:r>
                <a:rPr b="1" lang="zh-CN" sz="2800" spc="-1" strike="noStrike" u="sng">
                  <a:solidFill>
                    <a:srgbClr val="3333cc"/>
                  </a:solidFill>
                  <a:uFillTx/>
                  <a:latin typeface="Times New Roman"/>
                  <a:ea typeface="宋体"/>
                </a:rPr>
                <a:t>书号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，书名，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出版社名称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出版社（</a:t>
              </a:r>
              <a:r>
                <a:rPr b="1" lang="zh-CN" sz="2800" spc="-1" strike="noStrike" u="sng">
                  <a:solidFill>
                    <a:srgbClr val="3333cc"/>
                  </a:solidFill>
                  <a:uFillTx/>
                  <a:latin typeface="Times New Roman"/>
                  <a:ea typeface="宋体"/>
                </a:rPr>
                <a:t>出版社名称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，联系电话，地址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Object 1024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025"/>
          <p:cNvGraphicFramePr/>
          <p:nvPr/>
        </p:nvGraphicFramePr>
        <p:xfrm>
          <a:off x="4726080" y="38088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38088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1044"/>
          <p:cNvGrpSpPr/>
          <p:nvPr/>
        </p:nvGrpSpPr>
        <p:grpSpPr>
          <a:xfrm>
            <a:off x="2590920" y="1600200"/>
            <a:ext cx="2819160" cy="1143000"/>
            <a:chOff x="2590920" y="1600200"/>
            <a:chExt cx="2819160" cy="1143000"/>
          </a:xfrm>
        </p:grpSpPr>
        <p:graphicFrame>
          <p:nvGraphicFramePr>
            <p:cNvPr id="106" name="Object 1026"/>
            <p:cNvGraphicFramePr/>
            <p:nvPr/>
          </p:nvGraphicFramePr>
          <p:xfrm>
            <a:off x="2590920" y="1600200"/>
            <a:ext cx="2743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" name="Object 10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1600200"/>
                      <a:ext cx="2743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" name="Group 1037"/>
            <p:cNvGrpSpPr/>
            <p:nvPr/>
          </p:nvGrpSpPr>
          <p:grpSpPr>
            <a:xfrm>
              <a:off x="2590920" y="1752480"/>
              <a:ext cx="2819160" cy="366120"/>
              <a:chOff x="2590920" y="1752480"/>
              <a:chExt cx="2819160" cy="366120"/>
            </a:xfrm>
          </p:grpSpPr>
          <p:sp>
            <p:nvSpPr>
              <p:cNvPr id="109" name="Text Box 1038"/>
              <p:cNvSpPr/>
              <p:nvPr/>
            </p:nvSpPr>
            <p:spPr>
              <a:xfrm>
                <a:off x="259092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1039"/>
              <p:cNvSpPr/>
              <p:nvPr/>
            </p:nvSpPr>
            <p:spPr>
              <a:xfrm>
                <a:off x="4495680" y="1752480"/>
                <a:ext cx="91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Oval 15"/>
          <p:cNvSpPr/>
          <p:nvPr/>
        </p:nvSpPr>
        <p:spPr>
          <a:xfrm>
            <a:off x="2916360" y="1484280"/>
            <a:ext cx="216036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A8B-BBF4-4D30-974F-D761DBD78B7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024"/>
          <p:cNvGraphicFramePr/>
          <p:nvPr/>
        </p:nvGraphicFramePr>
        <p:xfrm>
          <a:off x="1447920" y="533520"/>
          <a:ext cx="6172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3352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1044"/>
          <p:cNvGrpSpPr/>
          <p:nvPr/>
        </p:nvGrpSpPr>
        <p:grpSpPr>
          <a:xfrm>
            <a:off x="533520" y="4233960"/>
            <a:ext cx="8153280" cy="1764720"/>
            <a:chOff x="533520" y="4233960"/>
            <a:chExt cx="8153280" cy="1764720"/>
          </a:xfrm>
        </p:grpSpPr>
        <p:sp>
          <p:nvSpPr>
            <p:cNvPr id="117" name="Text Box 1041"/>
            <p:cNvSpPr/>
            <p:nvPr/>
          </p:nvSpPr>
          <p:spPr>
            <a:xfrm>
              <a:off x="533520" y="4233960"/>
              <a:ext cx="8153280" cy="66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读者（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</a:rPr>
                <a:t>借书证号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，姓名，身份证号，住址，电话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042"/>
            <p:cNvSpPr/>
            <p:nvPr/>
          </p:nvSpPr>
          <p:spPr>
            <a:xfrm>
              <a:off x="533520" y="5334120"/>
              <a:ext cx="81532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读者’实体集转换得到的关系模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1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236-AD84-41E9-B8A1-0D8792F5A53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1024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25"/>
          <p:cNvGraphicFramePr/>
          <p:nvPr/>
        </p:nvGraphicFramePr>
        <p:xfrm>
          <a:off x="2819520" y="3809880"/>
          <a:ext cx="61722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809880"/>
                    <a:ext cx="6172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10"/>
          <p:cNvGrpSpPr/>
          <p:nvPr/>
        </p:nvGrpSpPr>
        <p:grpSpPr>
          <a:xfrm>
            <a:off x="155520" y="2438280"/>
            <a:ext cx="5025960" cy="2595960"/>
            <a:chOff x="155520" y="2438280"/>
            <a:chExt cx="5025960" cy="2595960"/>
          </a:xfrm>
        </p:grpSpPr>
        <p:sp>
          <p:nvSpPr>
            <p:cNvPr id="126" name="AutoShape 11"/>
            <p:cNvSpPr/>
            <p:nvPr/>
          </p:nvSpPr>
          <p:spPr>
            <a:xfrm>
              <a:off x="2590920" y="3505320"/>
              <a:ext cx="144756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>
              <a:off x="1752480" y="2438280"/>
              <a:ext cx="12956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3657600" y="4114800"/>
              <a:ext cx="1523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155520" y="3500280"/>
              <a:ext cx="183060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533520" y="4414680"/>
              <a:ext cx="183672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1905120" y="388620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V="1">
              <a:off x="2362320" y="4114440"/>
              <a:ext cx="68580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2666880" y="3063960"/>
            <a:ext cx="2210040" cy="1280520"/>
            <a:chOff x="2666880" y="3063960"/>
            <a:chExt cx="2210040" cy="1280520"/>
          </a:xfrm>
        </p:grpSpPr>
        <p:sp>
          <p:nvSpPr>
            <p:cNvPr id="134" name="Text Box 19"/>
            <p:cNvSpPr/>
            <p:nvPr/>
          </p:nvSpPr>
          <p:spPr>
            <a:xfrm>
              <a:off x="2666880" y="30639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3962520" y="3978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3352680" y="1295280"/>
            <a:ext cx="5715000" cy="1868040"/>
            <a:chOff x="3352680" y="1295280"/>
            <a:chExt cx="5715000" cy="1868040"/>
          </a:xfrm>
        </p:grpSpPr>
        <p:sp>
          <p:nvSpPr>
            <p:cNvPr id="137" name="Text Box 34"/>
            <p:cNvSpPr/>
            <p:nvPr/>
          </p:nvSpPr>
          <p:spPr>
            <a:xfrm>
              <a:off x="3352680" y="1295280"/>
              <a:ext cx="5715000" cy="12618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marL="1243080" indent="-1243080"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借阅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( 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</a:rPr>
                <a:t>借书证号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</a:rPr>
                <a:t>, 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</a:rPr>
                <a:t>书号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,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借阅日期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,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归还日期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35"/>
            <p:cNvSpPr/>
            <p:nvPr/>
          </p:nvSpPr>
          <p:spPr>
            <a:xfrm>
              <a:off x="3352680" y="2642760"/>
              <a:ext cx="571500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’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联系转换得到的关系模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Oval 21"/>
          <p:cNvSpPr/>
          <p:nvPr/>
        </p:nvSpPr>
        <p:spPr>
          <a:xfrm>
            <a:off x="2050920" y="3139920"/>
            <a:ext cx="273708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71A-E614-43C0-A171-0B9F6DBB5EB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1]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换得到的关系模式如下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书名，出版社名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出版社名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联系电话，地址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，姓名，身份证号，住址，电话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借书证号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,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3-12-09T06:19:16Z</dcterms:modified>
  <cp:revision>636</cp:revision>
  <dc:subject/>
  <dc:title>PowerPoint Presentation</dc:title>
</cp:coreProperties>
</file>