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BC7D-035D-4004-92F6-B3B298F5B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8811-15D4-4204-9771-5156AC285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8FCB-CB27-4B08-8794-ED3E19BB1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E305-E636-41E1-BEF5-A9B51CC3B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5367-5BC9-40D1-84FB-27A249519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0C4B-0293-4B2C-9A36-622D7D504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C917-F1BB-4E51-9E66-A2C7D580A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10F8-58F7-4D99-A5E2-132C4B42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46AB-7390-424C-AF07-D3DA5B789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AB50-D681-49EF-8F82-902519570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CAE-8429-4F58-B790-E1D081D7D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6B19-E17E-4D61-BEE0-FC53DF5BF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E0CD-E559-42F8-A7E6-D09A496D6DA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EF51-80BE-424E-8A30-F96399798D2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有一个邮件管理数据库，其信息如下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联系人：用户名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（关键字），电话，联系地址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邮件：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如果是一封回信，那么除了上述的邮件信息外，还需要增加一个“被回复邮件的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628640"/>
            <a:ext cx="2490480" cy="2521080"/>
            <a:chOff x="250920" y="1628640"/>
            <a:chExt cx="2490480" cy="2521080"/>
          </a:xfrm>
        </p:grpSpPr>
        <p:sp>
          <p:nvSpPr>
            <p:cNvPr id="44" name=""/>
            <p:cNvSpPr/>
            <p:nvPr/>
          </p:nvSpPr>
          <p:spPr>
            <a:xfrm>
              <a:off x="1707840" y="213372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1628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2276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2995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364500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74560" y="191628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4560" y="256392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474560" y="292428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74560" y="342864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43280" y="620640"/>
            <a:ext cx="3024360" cy="4537080"/>
            <a:chOff x="4643280" y="620640"/>
            <a:chExt cx="3024360" cy="4537080"/>
          </a:xfrm>
        </p:grpSpPr>
        <p:sp>
          <p:nvSpPr>
            <p:cNvPr id="54" name=""/>
            <p:cNvSpPr/>
            <p:nvPr/>
          </p:nvSpPr>
          <p:spPr>
            <a:xfrm>
              <a:off x="5821920" y="21337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5640" y="62064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46512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7640" y="46530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720" y="112536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7640" y="364500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51640" y="364500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56000" y="1421280"/>
            <a:ext cx="3240000" cy="928080"/>
            <a:chOff x="2556000" y="1421280"/>
            <a:chExt cx="3240000" cy="928080"/>
          </a:xfrm>
        </p:grpSpPr>
        <p:sp>
          <p:nvSpPr>
            <p:cNvPr id="62" name=""/>
            <p:cNvSpPr/>
            <p:nvPr/>
          </p:nvSpPr>
          <p:spPr>
            <a:xfrm>
              <a:off x="3276720" y="1421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56000" y="177336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177336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728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544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56000" y="2472120"/>
            <a:ext cx="3240000" cy="732240"/>
            <a:chOff x="2556000" y="2472120"/>
            <a:chExt cx="3240000" cy="732240"/>
          </a:xfrm>
        </p:grpSpPr>
        <p:sp>
          <p:nvSpPr>
            <p:cNvPr id="68" name=""/>
            <p:cNvSpPr/>
            <p:nvPr/>
          </p:nvSpPr>
          <p:spPr>
            <a:xfrm>
              <a:off x="3276720" y="2472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2852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285264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0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2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6000" y="3429000"/>
            <a:ext cx="3240000" cy="891360"/>
            <a:chOff x="2556000" y="3429000"/>
            <a:chExt cx="3240000" cy="891360"/>
          </a:xfrm>
        </p:grpSpPr>
        <p:sp>
          <p:nvSpPr>
            <p:cNvPr id="74" name=""/>
            <p:cNvSpPr/>
            <p:nvPr/>
          </p:nvSpPr>
          <p:spPr>
            <a:xfrm>
              <a:off x="3276720" y="3588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556000" y="342900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859280" y="342900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5600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1987560"/>
            <a:ext cx="2563920" cy="1584360"/>
            <a:chOff x="6443640" y="1987560"/>
            <a:chExt cx="2563920" cy="1584360"/>
          </a:xfrm>
        </p:grpSpPr>
        <p:sp>
          <p:nvSpPr>
            <p:cNvPr id="80" name=""/>
            <p:cNvSpPr/>
            <p:nvPr/>
          </p:nvSpPr>
          <p:spPr>
            <a:xfrm>
              <a:off x="7451640" y="242928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43640" y="24192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43640" y="3213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9640" y="198756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9640" y="32130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77080" y="2421000"/>
            <a:ext cx="503280" cy="790560"/>
            <a:chOff x="6877080" y="2421000"/>
            <a:chExt cx="503280" cy="790560"/>
          </a:xfrm>
        </p:grpSpPr>
        <p:sp>
          <p:nvSpPr>
            <p:cNvPr id="86" name=""/>
            <p:cNvSpPr/>
            <p:nvPr/>
          </p:nvSpPr>
          <p:spPr>
            <a:xfrm>
              <a:off x="6877080" y="2421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7080" y="2924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3528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90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00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108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114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120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126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132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50608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136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46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154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160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166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172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178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0" y="49417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件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297000"/>
            <a:ext cx="2305080" cy="151272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183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193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01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207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213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219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225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494172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    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ma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1052640"/>
            <a:ext cx="2736720" cy="2016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230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240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48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254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260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266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272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494172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回复邮件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接受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接受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1773360"/>
            <a:ext cx="2305080" cy="1008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50920" y="1052640"/>
            <a:ext cx="2490480" cy="2520360"/>
            <a:chOff x="250920" y="1052640"/>
            <a:chExt cx="2490480" cy="2520360"/>
          </a:xfrm>
        </p:grpSpPr>
        <p:sp>
          <p:nvSpPr>
            <p:cNvPr id="277" name=""/>
            <p:cNvSpPr/>
            <p:nvPr/>
          </p:nvSpPr>
          <p:spPr>
            <a:xfrm>
              <a:off x="1707840" y="1557360"/>
              <a:ext cx="1033560" cy="151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0920" y="1052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920" y="170028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0920" y="241920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0920" y="3068640"/>
              <a:ext cx="1223640" cy="504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74560" y="1339920"/>
              <a:ext cx="431280" cy="43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74560" y="1987560"/>
              <a:ext cx="431280" cy="28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474560" y="2347560"/>
              <a:ext cx="43128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474560" y="2852640"/>
              <a:ext cx="431280" cy="43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643280" y="44280"/>
            <a:ext cx="3024360" cy="4537080"/>
            <a:chOff x="4643280" y="44280"/>
            <a:chExt cx="3024360" cy="4537080"/>
          </a:xfrm>
        </p:grpSpPr>
        <p:sp>
          <p:nvSpPr>
            <p:cNvPr id="287" name=""/>
            <p:cNvSpPr/>
            <p:nvPr/>
          </p:nvSpPr>
          <p:spPr>
            <a:xfrm>
              <a:off x="5821920" y="155736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5640" y="4428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3280" y="407484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27640" y="407664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84720" y="54900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27640" y="306864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651640" y="306864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56000" y="844920"/>
            <a:ext cx="3240000" cy="928080"/>
            <a:chOff x="2556000" y="844920"/>
            <a:chExt cx="3240000" cy="928080"/>
          </a:xfrm>
        </p:grpSpPr>
        <p:sp>
          <p:nvSpPr>
            <p:cNvPr id="295" name=""/>
            <p:cNvSpPr/>
            <p:nvPr/>
          </p:nvSpPr>
          <p:spPr>
            <a:xfrm>
              <a:off x="3276720" y="8449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556000" y="119700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9280" y="119700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728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5440" y="1052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56000" y="1895760"/>
            <a:ext cx="3240000" cy="732240"/>
            <a:chOff x="2556000" y="1895760"/>
            <a:chExt cx="3240000" cy="732240"/>
          </a:xfrm>
        </p:grpSpPr>
        <p:sp>
          <p:nvSpPr>
            <p:cNvPr id="301" name=""/>
            <p:cNvSpPr/>
            <p:nvPr/>
          </p:nvSpPr>
          <p:spPr>
            <a:xfrm>
              <a:off x="3276720" y="1895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56000" y="22762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227628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0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32360" y="1915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56000" y="2852640"/>
            <a:ext cx="3240000" cy="891360"/>
            <a:chOff x="2556000" y="2852640"/>
            <a:chExt cx="3240000" cy="891360"/>
          </a:xfrm>
        </p:grpSpPr>
        <p:sp>
          <p:nvSpPr>
            <p:cNvPr id="307" name=""/>
            <p:cNvSpPr/>
            <p:nvPr/>
          </p:nvSpPr>
          <p:spPr>
            <a:xfrm>
              <a:off x="3276720" y="301176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556000" y="285264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859280" y="285264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5600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05440" y="328428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43640" y="1411200"/>
            <a:ext cx="2563920" cy="1584360"/>
            <a:chOff x="6443640" y="1411200"/>
            <a:chExt cx="2563920" cy="1584360"/>
          </a:xfrm>
        </p:grpSpPr>
        <p:sp>
          <p:nvSpPr>
            <p:cNvPr id="313" name=""/>
            <p:cNvSpPr/>
            <p:nvPr/>
          </p:nvSpPr>
          <p:spPr>
            <a:xfrm>
              <a:off x="7451640" y="185292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3640" y="18428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3640" y="26366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59640" y="14112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59640" y="263664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877080" y="1844640"/>
            <a:ext cx="503280" cy="790560"/>
            <a:chOff x="6877080" y="1844640"/>
            <a:chExt cx="503280" cy="790560"/>
          </a:xfrm>
        </p:grpSpPr>
        <p:sp>
          <p:nvSpPr>
            <p:cNvPr id="319" name=""/>
            <p:cNvSpPr/>
            <p:nvPr/>
          </p:nvSpPr>
          <p:spPr>
            <a:xfrm>
              <a:off x="6877080" y="18446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77080" y="2347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494172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系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标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邮件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发件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mail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回复邮件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抄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ID,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抄送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mai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2925720"/>
            <a:ext cx="2305080" cy="1008000"/>
          </a:xfrm>
          <a:custGeom>
            <a:avLst/>
            <a:gdLst/>
            <a:ahLst/>
            <a:rect l="l" t="t" r="r" b="b"/>
            <a:pathLst>
              <a:path w="1452" h="953">
                <a:moveTo>
                  <a:pt x="680" y="23"/>
                </a:moveTo>
                <a:cubicBezTo>
                  <a:pt x="438" y="0"/>
                  <a:pt x="0" y="325"/>
                  <a:pt x="0" y="476"/>
                </a:cubicBezTo>
                <a:cubicBezTo>
                  <a:pt x="0" y="627"/>
                  <a:pt x="438" y="907"/>
                  <a:pt x="680" y="930"/>
                </a:cubicBezTo>
                <a:cubicBezTo>
                  <a:pt x="922" y="953"/>
                  <a:pt x="1452" y="763"/>
                  <a:pt x="1452" y="612"/>
                </a:cubicBezTo>
                <a:cubicBezTo>
                  <a:pt x="1452" y="461"/>
                  <a:pt x="922" y="46"/>
                  <a:pt x="680" y="2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27T05:33:36Z</dcterms:modified>
  <cp:revision>661</cp:revision>
  <dc:subject/>
  <dc:title>PowerPoint Presentation</dc:title>
</cp:coreProperties>
</file>