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7B59F-B611-4532-A5D9-67AB413428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4E23E-E3E9-451E-B9F3-F0182AB7FC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8C772-B3D8-4CE3-B7E8-396D87E43F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06A5F-F526-4774-9779-81FA0B65EB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04CEA-3083-4410-9FCA-AE07891795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13050-9A80-4695-AEDA-8EE841C6B8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88E58-C4FB-4E31-8D7C-62CE80295A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6009C-6578-4ED8-BC63-2FAEA14C37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21CA0-4821-4E43-A461-6110D9B026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347D0-469D-43AC-96BB-409FBF7CB2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B834F-FDE2-41A9-8864-63E9EF6D31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4E5B5-22C0-414B-83A3-C27B4744CA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8995-41BC-4F93-B5CC-EA5438207421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幻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5771-6A5F-477E-A76F-DA14D66E55FB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[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例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5]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Times New Roman"/>
              </a:rPr>
              <a:t>假设需要建立一个学校的信息管理系统，其中需要保存的信息有：学生的学号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Times New Roman"/>
              </a:rPr>
              <a:t>具有唯一性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Times New Roman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Times New Roman"/>
              </a:rPr>
              <a:t>，姓名，性别，所在的系和修读的专业；教师的工作证编号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Times New Roman"/>
              </a:rPr>
              <a:t>具有唯一性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Times New Roman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Times New Roman"/>
              </a:rPr>
              <a:t>，姓名，职称和出生日期；课程的编号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Times New Roman"/>
              </a:rPr>
              <a:t>具有唯一性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Times New Roman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Times New Roman"/>
              </a:rPr>
              <a:t>，名称，类别代码和学分数。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其中：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Times New Roman"/>
              </a:rPr>
              <a:t>一门课程可以分若干个班上课，每个班有一个主讲教师；学生在选课时必须确定其所选课程的任课教师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Times New Roman"/>
              </a:rPr>
              <a:t>即在由该教师担任主讲任务的班级上听课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Times New Roman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Times New Roman"/>
              </a:rPr>
              <a:t>，系统需要记录学生的选课信息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Times New Roman"/>
              </a:rPr>
              <a:t>所选课程以及该课程的主讲教师、选修时间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Times New Roman"/>
              </a:rPr>
              <a:t>年份和学期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Times New Roman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Times New Roman"/>
              </a:rPr>
              <a:t>和成绩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Times New Roman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Times New Roman"/>
              </a:rPr>
              <a:t>。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幻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2C35-DAFD-4655-A174-91DF81D145A9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ER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模型的设计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-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设计方案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1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43" name="Object 4"/>
          <p:cNvGraphicFramePr/>
          <p:nvPr/>
        </p:nvGraphicFramePr>
        <p:xfrm>
          <a:off x="0" y="990720"/>
          <a:ext cx="914400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幻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2447-1215-478E-B6C3-5B96EA610926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ER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模型的设计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-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设计方案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2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47" name="Object 3"/>
          <p:cNvGraphicFramePr/>
          <p:nvPr/>
        </p:nvGraphicFramePr>
        <p:xfrm>
          <a:off x="-98280" y="1066680"/>
          <a:ext cx="9342360" cy="518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8280" y="1066680"/>
                    <a:ext cx="934236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i Hu</cp:lastModifiedBy>
  <dcterms:modified xsi:type="dcterms:W3CDTF">2013-12-09T06:38:02Z</dcterms:modified>
  <cp:revision>631</cp:revision>
  <dc:subject/>
  <dc:title>PowerPoint Presentation</dc:title>
</cp:coreProperties>
</file>