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FB04-3683-4218-8635-718F4B87E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single language is too complica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description – not a modelling language but has its concepts in modelling. Diagrams indicate the processes by whic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lecules change each other in temporal sequence -&gt; can form the basis of kinetic modell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ity relationships – these diagrams show independent facts, for example derived from the literat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vity flow – these diagrams indicate how biological activities impact on each other when perhaps not all molecular details are kno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A2FF-21F5-49F0-BA06-8BF00AAA97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types of gly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mantically ric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complex ( more nodes ) but unambiguo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our has no meaning.Entity Pool No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FF06-0B8F-45BC-968E-B6C082E51A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9BA4-D201-44DE-96FA-6792CA9DD1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lone mar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talysis gly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tate mar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actions go L-&gt;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DD38-BF17-4950-B7EF-35711B7645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se terms can be added to units of in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ll as true today as in 1998 -&gt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ow to reassemble the component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E28C-4B39-4D78-BF6C-47608AEC73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igger now = necessary stim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895C-8A74-40B4-B35A-6CFBC5BA47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 stimulates LHY transcription. LHY protein returns to nucleus and stimulates PRR transcrip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R –vely regulates LH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n loop: light stimulates GI production , which in turn  activates TOC1. TOC1 –vely regulates GI and stimulates protein 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loop Protein X stimulates LHY production. LHY inhibits transcription of GI and TOC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C5CD-D0E8-41A3-A161-AC18335918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 tempo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33C6-CADD-4270-9F48-F34C41E8FF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action relationshi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EFDA-8BA5-4FEC-B831-ACE5B161A8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is just literature data, let alone all the data in databases, exptal data etc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8C7D-68FD-4819-8287-90BAE0B93A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olute inhibit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B986-BEF5-4556-A85E-185FE4636F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k about  a single entity rather than pool of entities, here. Hence the ‘Or’ loo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D4F3-FF16-4C4C-BC25-F5702CE4F2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) Sequential complex (Name should be 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F3AC-4DE0-4C02-B800-A2B64A4043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ch simpler notation – details of reaction mechanisms not consider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89D8-F6C3-4E82-880F-1471AF43AB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mpler; omits compartme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ld coalesce genes and proteins into a single activity if appropri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dynam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90BB-CF30-4EA7-AAB0-5382CEAFDC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t, depends on the dia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llers need abstract, rigorous, unambigious definition of the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ologists may think more holistically or not have enough information to make a mod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re of distilled in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ion poi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 of modell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586C-9F6C-47B6-A0B3-4D62E34726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1F9E-EAE5-4040-B022-C308130C648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04BB-87E2-4640-B232-A6D6AF8BE0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xample diagram of the control of exit of mitos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1) Different proteins have different shapes &amp; colours – why? Is this meaningful or just artistic licenc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2) All transitions are just arrows – presumably ‘activation’ but could be transloca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3) What is the nature of inhibition? Enzymatic inhibition? Degrada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4) Missing information – Mad2 OR Bub1 are sufficient to inhibit AP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5) What are sources and sink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) Number of ubiquitation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eds long and complex figure legend to understand the diagra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E7E9-AC84-4D07-822E-279AFE8D35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277C-504B-46A9-9FBA-58D6CD0CC6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ine width/dashe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hard to reproduce, may be lost by photocopying, hand-draw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lour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photpcop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pecific symbo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dentical line terminators used to mean different 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it diagram of a radio ( from Lazebnik, 2001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21A3-A017-4F7C-A3CA-D48C9E70A4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290-2472-43E5-9DEC-1B7F8DFB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69F-CF10-42E1-B699-36BED5BB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F5C-C3C4-45A1-9F21-BE2C3C3A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632-2BB3-4999-B169-31DFA667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C5E1-ACA0-46FC-A170-4DAABD13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F5FE-10D5-47A8-8C0B-0AC8AEB6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4C1A-3469-45F3-941D-0284C82A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A736-D2EE-4A6E-86D7-A2B65DEE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ADD0-CA66-466C-A175-BE9A8E58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8D91-3290-4789-AE45-19144B6E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33B5-75F8-42A2-BE6F-CDA3BBEC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6BB-F1A4-4D24-B51B-1D1F16E3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FB58-C12C-4E56-8E58-683430F9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42D6-F154-42B4-ACCF-D289AE53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001F-2090-4DF4-9685-E96E194D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5CF1-20CF-42F1-A4AF-180909D3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7E4C-FF7C-4467-BF19-25F16A7E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4F42-7B53-46C7-B279-B2227C52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5AD1-D579-4013-A989-ECC28225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2C20-D137-425B-9084-76D4C28B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8764-0D90-42E6-BCAF-3A097403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36C86-4150-44AC-875E-4AAC4A2F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E57-D321-4C5E-90C6-764EA8B8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2E2E6-61C3-4919-AA2B-13F7DA9A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C657-1EE7-4E68-BC6B-9045118A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C80E3-C03F-4BA3-8EFD-960D7026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56B5-C473-46E9-9C14-D1BBF68B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E472-A9B0-4E02-ADC7-48D45FBA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DFCB-88FC-499C-81D8-A71CA86D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953B-2A87-4EB8-ABC4-55972B26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C0B-F22F-4D2E-8E09-AE12BBB0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5D7-D290-4C92-831D-EC7BD034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958-6352-4BD6-BBC9-C8EC6F32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790-396F-4B8D-88E2-D5EBFA59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C66-76DF-4D12-BA95-728109C1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CDE-C993-48F2-94BA-0641402D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978E-93D4-4956-9874-952C89292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D288-91EF-4D33-97CB-DB102DE5870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6DF6-1FF3-49BE-A3AC-03B11D57E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3E78-14B2-416A-BEA5-023EE7044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lldesigner.org/" TargetMode="External"/><Relationship Id="rId3" Type="http://schemas.openxmlformats.org/officeDocument/2006/relationships/hyperlink" Target="http://www.pathwayeditor.org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bgn.org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lldesigner.org/" TargetMode="External"/><Relationship Id="rId3" Type="http://schemas.openxmlformats.org/officeDocument/2006/relationships/hyperlink" Target="http://www.pathwayeditor.org/" TargetMode="Externa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.ac.uk/compneur-srv/miase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ystems Biology Graphical No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887480" y="4235400"/>
            <a:ext cx="46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07120" y="3352680"/>
            <a:ext cx="66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ichard Ad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entre for Systems Biology, Edinbur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5" descr="sbgn-logo.jpg"/>
          <p:cNvPicPr/>
          <p:nvPr/>
        </p:nvPicPr>
        <p:blipFill>
          <a:blip r:embed="rId2"/>
          <a:stretch/>
        </p:blipFill>
        <p:spPr>
          <a:xfrm>
            <a:off x="457200" y="5664240"/>
            <a:ext cx="2336760" cy="50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bbsrc.gif"/>
          <p:cNvPicPr/>
          <p:nvPr/>
        </p:nvPicPr>
        <p:blipFill>
          <a:blip r:embed="rId3"/>
          <a:stretch/>
        </p:blipFill>
        <p:spPr>
          <a:xfrm>
            <a:off x="6324480" y="5562720"/>
            <a:ext cx="221004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SBGN goal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 the graphical notation used to represent biological proces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ingle diagram has a single mea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f-explanat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menable to compu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le to cope with missing/incomplete inform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es to be drawn at different levels of granularit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restricted in u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 dependent on single software produ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drawn by hand or printed without loss of inform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BGN develop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in community workshops since 20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kes best ideas from several graphical notatio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rsion 1 spec released 200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ed by BBSRC, NEDO (Japan), EML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ordinated by 5 edito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 tools for SBG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llDesigner (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celldesigner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P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inburgh Pathway Editor (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pathwayeditor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PD, ER, A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adia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D http://sourceforge.net/projects/arcadiapathways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nted PD (http://vanted.ipk-gatersleben.de/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ree types of dia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 Descrip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tity Relationsh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tivity Fl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496360" cy="58993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5703840" y="533520"/>
            <a:ext cx="243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totic exit in SBGN-P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xample SBGN Process Dia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4489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Categories of glyphs in SBGN-PD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ain types of visual features, or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glyph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ntity pool nod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represent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hing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cess nodes,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present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necting arc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lin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ransformation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hing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)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Logical operator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 represent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oolean log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tainment nod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represent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hysical restri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Restricted vocabular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ystems Biology Ontology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SBO) is used to provide a restricted vocabulary of terms for use in SBGN diagrams. For example, several common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material  type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of entity 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-macromolecular ion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t: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3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-macromolecular radical mt:rad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3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bonucleic aci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t:rn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2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oxribonucleic acid           mt:dn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25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te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mt:pro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29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lysacchar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t:psac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2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Restricted vocabularie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thin a diagram, an entity can be labeled with a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onceptual typ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ich indicates its role in the pathwa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t:gen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O:000024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cription start sit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t:ts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O:000032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 coding region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t:coding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O:000033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 regulatory region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t:gr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O:000036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ssenger RN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t:mRN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O:000027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se can be used to annotate various entities, by inserting this information in a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Unit of Inform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ntity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Unspecified ent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imple compou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Nucleic acid fe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Multim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Comple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of these entities can hold (or ‘contain’)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clone markers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nits of inform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In addition, macromolecules, nucleic acid features and multimers can hol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lyph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hallenge of reconstructing complex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2057400"/>
            <a:ext cx="8610840" cy="47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The greatest challenge today, not just in cell biology and ecology but in all of science, is the accurate and complete description of complex system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entists have broken down many kinds of systems. They think they know most of the elements and for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next task is to reassemble them, at least in mathematical model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t capture the key properties of the entire ensemble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.O. Wilson –’Consilience’ 199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3201840" cy="26557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1023840" y="107172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830960" y="776160"/>
            <a:ext cx="273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ntity node ex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>
            <a:off x="4737240" y="1905120"/>
            <a:ext cx="3720960" cy="2819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1828800" y="5334120"/>
            <a:ext cx="477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lone markers are  only needed for complexes in identical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ntity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7412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tainer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ntainer nodes are used to hold multiple entity nodes, to arbitrary levels of complex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Complex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 - to represent macromolecular complex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Compartment –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o represent a physically restricted location in the c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ubma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– indicating a complex process that should be mentioned, but whose details we are not concerned with in this particular diagra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tainer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6799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Process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se nodes represent transformation. They 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Process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: a generic, widely used  glyph representing any transform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Uncertain process –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can represent unknown or hypothetical process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Omitted process –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process whose details we are not concerned with in this pathwa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Association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  - the non-covalent binding of 2 or more entity nodes into a larger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Dissociation  -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the breaking up of such a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Process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5891040" cy="1013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609480" y="4572000"/>
            <a:ext cx="8001000" cy="510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ociation    Dissocia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Transi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certain process    Omitted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Line 6"/>
          <p:cNvSpPr/>
          <p:nvPr/>
        </p:nvSpPr>
        <p:spPr>
          <a:xfrm flipV="1">
            <a:off x="1219320" y="3581280"/>
            <a:ext cx="285480" cy="914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Line 7"/>
          <p:cNvSpPr/>
          <p:nvPr/>
        </p:nvSpPr>
        <p:spPr>
          <a:xfrm flipV="1">
            <a:off x="2600280" y="3580920"/>
            <a:ext cx="304920" cy="1016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8"/>
          <p:cNvSpPr/>
          <p:nvPr/>
        </p:nvSpPr>
        <p:spPr>
          <a:xfrm flipV="1">
            <a:off x="4154400" y="3581280"/>
            <a:ext cx="46080" cy="99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5724360" y="3580920"/>
            <a:ext cx="1800" cy="863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10"/>
          <p:cNvSpPr/>
          <p:nvPr/>
        </p:nvSpPr>
        <p:spPr>
          <a:xfrm flipH="1" flipV="1">
            <a:off x="6943320" y="3580920"/>
            <a:ext cx="142920" cy="792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xample - dissoci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60037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necting ar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Arcs connect entities with processes. In SBGN, the following types of arc exist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Consumption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 links substrates to a reaction transi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Production     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 links a reaction transition to a produ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Modulation    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dicates that an entity has either an          unknown, or variable effect on a   reaction proces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Catalysis    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pecial case of stimul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Stimulation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creases reaction flux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Inhibition   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creases reaction flux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Trigger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this is an ‘absolute’ stimulation that is essential for the transition to occu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Logic arc        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connects logic gates to their input and output nod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Equivalence arc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indicates that an entity is equivalent to a </a:t>
            </a:r>
            <a:r>
              <a:rPr b="0" i="1" lang="en-GB" sz="1900" spc="-1" strike="noStrike">
                <a:solidFill>
                  <a:srgbClr val="000000"/>
                </a:solidFill>
                <a:latin typeface="Verdana"/>
              </a:rPr>
              <a:t>tag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necting ar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4102200" cy="2984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4427640" y="2565360"/>
            <a:ext cx="44463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Other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Source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sink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nodes are used to denote an unspecified  starting and ending points of a pathwa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Perturbation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dicate some external stimulus on the system – e.g., lig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Phenotype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an externally visible alteration or biochemical proces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Clone marke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3" descr="GoldbeterReactions.png"/>
          <p:cNvPicPr/>
          <p:nvPr/>
        </p:nvPicPr>
        <p:blipFill>
          <a:blip r:embed="rId2"/>
          <a:srcRect l="-11158" t="0" r="-11158" b="0"/>
          <a:stretch/>
        </p:blipFill>
        <p:spPr>
          <a:xfrm>
            <a:off x="566640" y="1676520"/>
            <a:ext cx="8429760" cy="4495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GoldbeterDrosophilaClockReactions.png"/>
          <p:cNvPicPr/>
          <p:nvPr/>
        </p:nvPicPr>
        <p:blipFill>
          <a:blip r:embed="rId3"/>
          <a:stretch/>
        </p:blipFill>
        <p:spPr>
          <a:xfrm>
            <a:off x="457200" y="838080"/>
            <a:ext cx="8381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Other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82281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nectivity of entity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5343480" cy="36576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56280" y="1989000"/>
            <a:ext cx="211608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ad this 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[row] can have a [column] as [input or output]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851280" y="3573360"/>
            <a:ext cx="360360" cy="19432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nectivity of proces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5172120" cy="35240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6516720" y="2421000"/>
            <a:ext cx="178128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ad this 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[row] arc can have a [column] as [input or output]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4876920" cy="5338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4050000" y="1447920"/>
            <a:ext cx="4089960" cy="21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ociation of transcription factors to produ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RF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 the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stimulu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rrows for transcription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ans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8496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6212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rabidopsis Circadian clock 3 loop mod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7488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0" y="182520"/>
            <a:ext cx="872028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ity relationship diagra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Content Placeholder 3" descr="Picture 1.png"/>
          <p:cNvPicPr/>
          <p:nvPr/>
        </p:nvPicPr>
        <p:blipFill>
          <a:blip r:embed="rId2"/>
          <a:srcRect l="-20472" t="0" r="-20472" b="0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entity interactors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Content Placeholder 5" descr="PCR1.png"/>
          <p:cNvPicPr/>
          <p:nvPr/>
        </p:nvPicPr>
        <p:blipFill>
          <a:blip r:embed="rId2"/>
          <a:srcRect l="-17534" t="0" r="-17534" b="0"/>
          <a:stretch/>
        </p:blipFill>
        <p:spPr>
          <a:xfrm>
            <a:off x="1600200" y="2514600"/>
            <a:ext cx="4857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ding relationship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6" descr="PCR2.png"/>
          <p:cNvPicPr/>
          <p:nvPr/>
        </p:nvPicPr>
        <p:blipFill>
          <a:blip r:embed="rId2"/>
          <a:stretch/>
        </p:blipFill>
        <p:spPr>
          <a:xfrm>
            <a:off x="2438280" y="1981080"/>
            <a:ext cx="37227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re’s a lot of information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ubMed has 19,953,959 publications dating 1860-201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Growing at 2 per min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How to assemble information suitable for modelling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ding influence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3" descr="PCR3.png"/>
          <p:cNvPicPr/>
          <p:nvPr/>
        </p:nvPicPr>
        <p:blipFill>
          <a:blip r:embed="rId2"/>
          <a:stretch/>
        </p:blipFill>
        <p:spPr>
          <a:xfrm>
            <a:off x="1447920" y="1676520"/>
            <a:ext cx="53337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PCR4.png"/>
          <p:cNvPicPr/>
          <p:nvPr/>
        </p:nvPicPr>
        <p:blipFill>
          <a:blip r:embed="rId2"/>
          <a:stretch/>
        </p:blipFill>
        <p:spPr>
          <a:xfrm>
            <a:off x="2057400" y="2057400"/>
            <a:ext cx="4726080" cy="42670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re influence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utcomes and their influences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3" descr="PCR_final.png"/>
          <p:cNvPicPr/>
          <p:nvPr/>
        </p:nvPicPr>
        <p:blipFill>
          <a:blip r:embed="rId2"/>
          <a:stretch/>
        </p:blipFill>
        <p:spPr>
          <a:xfrm>
            <a:off x="1143000" y="1828800"/>
            <a:ext cx="55627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fs in SBGN-ER -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Content Placeholder 3" descr="P-dependent_binding.png"/>
          <p:cNvPicPr/>
          <p:nvPr/>
        </p:nvPicPr>
        <p:blipFill>
          <a:blip r:embed="rId2"/>
          <a:srcRect l="-3915" t="0" r="-3915" b="0"/>
          <a:stretch/>
        </p:blipFill>
        <p:spPr>
          <a:xfrm>
            <a:off x="4267080" y="2362320"/>
            <a:ext cx="4429080" cy="236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ultimerFormation.png"/>
          <p:cNvPicPr/>
          <p:nvPr/>
        </p:nvPicPr>
        <p:blipFill>
          <a:blip r:embed="rId3"/>
          <a:stretch/>
        </p:blipFill>
        <p:spPr>
          <a:xfrm>
            <a:off x="838080" y="2133720"/>
            <a:ext cx="3429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fs in SBGN-ER -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Content Placeholder 3" descr="MutExclusiveBinding.png"/>
          <p:cNvPicPr/>
          <p:nvPr/>
        </p:nvPicPr>
        <p:blipFill>
          <a:blip r:embed="rId2"/>
          <a:srcRect l="0" t="-5618" r="0" b="-5618"/>
          <a:stretch/>
        </p:blipFill>
        <p:spPr>
          <a:xfrm>
            <a:off x="304920" y="1752480"/>
            <a:ext cx="5857920" cy="3124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sequential Binding.png"/>
          <p:cNvPicPr/>
          <p:nvPr/>
        </p:nvPicPr>
        <p:blipFill>
          <a:blip r:embed="rId3"/>
          <a:stretch/>
        </p:blipFill>
        <p:spPr>
          <a:xfrm>
            <a:off x="838080" y="2819520"/>
            <a:ext cx="5435640" cy="3467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oopBinding.png"/>
          <p:cNvPicPr/>
          <p:nvPr/>
        </p:nvPicPr>
        <p:blipFill>
          <a:blip r:embed="rId4"/>
          <a:stretch/>
        </p:blipFill>
        <p:spPr>
          <a:xfrm>
            <a:off x="3733920" y="2133720"/>
            <a:ext cx="49212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more complex exampl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4" descr="Picture 2.png"/>
          <p:cNvPicPr/>
          <p:nvPr/>
        </p:nvPicPr>
        <p:blipFill>
          <a:blip r:embed="rId2"/>
          <a:srcRect l="0" t="-12462" r="0" b="-12462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vity flow no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Content Placeholder 4" descr="Picture 2.png"/>
          <p:cNvPicPr/>
          <p:nvPr/>
        </p:nvPicPr>
        <p:blipFill>
          <a:blip r:embed="rId2"/>
          <a:srcRect l="-12391" t="0" r="-12391" b="0"/>
          <a:stretch/>
        </p:blipFill>
        <p:spPr>
          <a:xfrm>
            <a:off x="609480" y="1828800"/>
            <a:ext cx="69771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8"/>
          <p:cNvGrpSpPr/>
          <p:nvPr/>
        </p:nvGrpSpPr>
        <p:grpSpPr>
          <a:xfrm>
            <a:off x="1565280" y="899640"/>
            <a:ext cx="1027080" cy="572040"/>
            <a:chOff x="1565280" y="899640"/>
            <a:chExt cx="1027080" cy="572040"/>
          </a:xfrm>
        </p:grpSpPr>
        <p:sp>
          <p:nvSpPr>
            <p:cNvPr id="263" name="Rectangle 6"/>
            <p:cNvSpPr/>
            <p:nvPr/>
          </p:nvSpPr>
          <p:spPr>
            <a:xfrm>
              <a:off x="1565280" y="1084320"/>
              <a:ext cx="10270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ound Same Side Corner Rectangle 3"/>
            <p:cNvSpPr/>
            <p:nvPr/>
          </p:nvSpPr>
          <p:spPr>
            <a:xfrm rot="10800000">
              <a:off x="1627200" y="899640"/>
              <a:ext cx="827280" cy="31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TextBox 4"/>
            <p:cNvSpPr/>
            <p:nvPr/>
          </p:nvSpPr>
          <p:spPr>
            <a:xfrm>
              <a:off x="1764360" y="913680"/>
              <a:ext cx="53244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H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1743120" y="1862280"/>
            <a:ext cx="988920" cy="536400"/>
            <a:chOff x="1743120" y="1862280"/>
            <a:chExt cx="988920" cy="536400"/>
          </a:xfrm>
        </p:grpSpPr>
        <p:sp>
          <p:nvSpPr>
            <p:cNvPr id="267" name="Rectangle 50"/>
            <p:cNvSpPr/>
            <p:nvPr/>
          </p:nvSpPr>
          <p:spPr>
            <a:xfrm>
              <a:off x="1743120" y="2000160"/>
              <a:ext cx="98892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1832040" y="1862280"/>
              <a:ext cx="53172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TextBox 52"/>
            <p:cNvSpPr/>
            <p:nvPr/>
          </p:nvSpPr>
          <p:spPr>
            <a:xfrm>
              <a:off x="1913400" y="1868040"/>
              <a:ext cx="342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H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70" name="Straight Arrow Connector 54"/>
          <p:cNvCxnSpPr>
            <a:stCxn id="263" idx="2"/>
            <a:endCxn id="269" idx="0"/>
          </p:cNvCxnSpPr>
          <p:nvPr/>
        </p:nvCxnSpPr>
        <p:spPr>
          <a:xfrm>
            <a:off x="2077920" y="1471680"/>
            <a:ext cx="7200" cy="3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271" name="Group 8"/>
          <p:cNvGrpSpPr/>
          <p:nvPr/>
        </p:nvGrpSpPr>
        <p:grpSpPr>
          <a:xfrm>
            <a:off x="3087720" y="926640"/>
            <a:ext cx="1027080" cy="572040"/>
            <a:chOff x="3087720" y="926640"/>
            <a:chExt cx="1027080" cy="572040"/>
          </a:xfrm>
        </p:grpSpPr>
        <p:sp>
          <p:nvSpPr>
            <p:cNvPr id="272" name="Rectangle 57"/>
            <p:cNvSpPr/>
            <p:nvPr/>
          </p:nvSpPr>
          <p:spPr>
            <a:xfrm>
              <a:off x="3087720" y="1111320"/>
              <a:ext cx="10270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ound Same Side Corner Rectangle 58"/>
            <p:cNvSpPr/>
            <p:nvPr/>
          </p:nvSpPr>
          <p:spPr>
            <a:xfrm rot="10800000">
              <a:off x="3149640" y="926640"/>
              <a:ext cx="827280" cy="31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TextBox 59"/>
            <p:cNvSpPr/>
            <p:nvPr/>
          </p:nvSpPr>
          <p:spPr>
            <a:xfrm>
              <a:off x="3286800" y="940680"/>
              <a:ext cx="53244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" name="Group 20"/>
          <p:cNvGrpSpPr/>
          <p:nvPr/>
        </p:nvGrpSpPr>
        <p:grpSpPr>
          <a:xfrm>
            <a:off x="3241800" y="1839960"/>
            <a:ext cx="990360" cy="538200"/>
            <a:chOff x="3241800" y="1839960"/>
            <a:chExt cx="990360" cy="538200"/>
          </a:xfrm>
        </p:grpSpPr>
        <p:sp>
          <p:nvSpPr>
            <p:cNvPr id="276" name="Rectangle 62"/>
            <p:cNvSpPr/>
            <p:nvPr/>
          </p:nvSpPr>
          <p:spPr>
            <a:xfrm>
              <a:off x="3241800" y="1979640"/>
              <a:ext cx="99036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63"/>
            <p:cNvSpPr/>
            <p:nvPr/>
          </p:nvSpPr>
          <p:spPr>
            <a:xfrm>
              <a:off x="3330360" y="1839960"/>
              <a:ext cx="53172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TextBox 64"/>
            <p:cNvSpPr/>
            <p:nvPr/>
          </p:nvSpPr>
          <p:spPr>
            <a:xfrm>
              <a:off x="3445560" y="1845720"/>
              <a:ext cx="343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5373720" y="1925640"/>
            <a:ext cx="988920" cy="536400"/>
            <a:chOff x="5373720" y="1925640"/>
            <a:chExt cx="988920" cy="536400"/>
          </a:xfrm>
        </p:grpSpPr>
        <p:sp>
          <p:nvSpPr>
            <p:cNvPr id="280" name="Rectangle 142"/>
            <p:cNvSpPr/>
            <p:nvPr/>
          </p:nvSpPr>
          <p:spPr>
            <a:xfrm>
              <a:off x="5373720" y="2063520"/>
              <a:ext cx="98892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143"/>
            <p:cNvSpPr/>
            <p:nvPr/>
          </p:nvSpPr>
          <p:spPr>
            <a:xfrm>
              <a:off x="5462640" y="1925640"/>
              <a:ext cx="53172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Box 144"/>
            <p:cNvSpPr/>
            <p:nvPr/>
          </p:nvSpPr>
          <p:spPr>
            <a:xfrm>
              <a:off x="5549760" y="1931400"/>
              <a:ext cx="23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8"/>
          <p:cNvGrpSpPr/>
          <p:nvPr/>
        </p:nvGrpSpPr>
        <p:grpSpPr>
          <a:xfrm>
            <a:off x="6751800" y="926640"/>
            <a:ext cx="1028520" cy="572040"/>
            <a:chOff x="6751800" y="926640"/>
            <a:chExt cx="1028520" cy="572040"/>
          </a:xfrm>
        </p:grpSpPr>
        <p:sp>
          <p:nvSpPr>
            <p:cNvPr id="284" name="Rectangle 147"/>
            <p:cNvSpPr/>
            <p:nvPr/>
          </p:nvSpPr>
          <p:spPr>
            <a:xfrm>
              <a:off x="6751800" y="1111320"/>
              <a:ext cx="10285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ound Same Side Corner Rectangle 148"/>
            <p:cNvSpPr/>
            <p:nvPr/>
          </p:nvSpPr>
          <p:spPr>
            <a:xfrm rot="10800000">
              <a:off x="6813720" y="926640"/>
              <a:ext cx="828720" cy="31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TextBox 149"/>
            <p:cNvSpPr/>
            <p:nvPr/>
          </p:nvSpPr>
          <p:spPr>
            <a:xfrm>
              <a:off x="6951240" y="940680"/>
              <a:ext cx="5331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OC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6916680" y="1797120"/>
            <a:ext cx="990720" cy="538200"/>
            <a:chOff x="6916680" y="1797120"/>
            <a:chExt cx="990720" cy="538200"/>
          </a:xfrm>
        </p:grpSpPr>
        <p:sp>
          <p:nvSpPr>
            <p:cNvPr id="288" name="Rectangle 151"/>
            <p:cNvSpPr/>
            <p:nvPr/>
          </p:nvSpPr>
          <p:spPr>
            <a:xfrm>
              <a:off x="6916680" y="1936800"/>
              <a:ext cx="99072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152"/>
            <p:cNvSpPr/>
            <p:nvPr/>
          </p:nvSpPr>
          <p:spPr>
            <a:xfrm>
              <a:off x="7005600" y="1797120"/>
              <a:ext cx="53172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Box 153"/>
            <p:cNvSpPr/>
            <p:nvPr/>
          </p:nvSpPr>
          <p:spPr>
            <a:xfrm>
              <a:off x="7128720" y="1802880"/>
              <a:ext cx="404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OC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1" name="Group 8"/>
          <p:cNvGrpSpPr/>
          <p:nvPr/>
        </p:nvGrpSpPr>
        <p:grpSpPr>
          <a:xfrm>
            <a:off x="5219640" y="747720"/>
            <a:ext cx="1027080" cy="571320"/>
            <a:chOff x="5219640" y="747720"/>
            <a:chExt cx="1027080" cy="571320"/>
          </a:xfrm>
        </p:grpSpPr>
        <p:sp>
          <p:nvSpPr>
            <p:cNvPr id="292" name="Rectangle 156"/>
            <p:cNvSpPr/>
            <p:nvPr/>
          </p:nvSpPr>
          <p:spPr>
            <a:xfrm>
              <a:off x="5219640" y="931680"/>
              <a:ext cx="10270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Round Same Side Corner Rectangle 157"/>
            <p:cNvSpPr/>
            <p:nvPr/>
          </p:nvSpPr>
          <p:spPr>
            <a:xfrm rot="10800000">
              <a:off x="5281560" y="747720"/>
              <a:ext cx="565200" cy="312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TextBox 158"/>
            <p:cNvSpPr/>
            <p:nvPr/>
          </p:nvSpPr>
          <p:spPr>
            <a:xfrm>
              <a:off x="5418720" y="761400"/>
              <a:ext cx="25524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95" name="Straight Arrow Connector 177"/>
          <p:cNvCxnSpPr>
            <a:stCxn id="292" idx="2"/>
            <a:endCxn id="281" idx="0"/>
          </p:cNvCxnSpPr>
          <p:nvPr/>
        </p:nvCxnSpPr>
        <p:spPr>
          <a:xfrm flipH="1">
            <a:off x="5727240" y="1318680"/>
            <a:ext cx="5760" cy="607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96" name="Straight Arrow Connector 179"/>
          <p:cNvCxnSpPr>
            <a:stCxn id="272" idx="2"/>
            <a:endCxn id="277" idx="0"/>
          </p:cNvCxnSpPr>
          <p:nvPr/>
        </p:nvCxnSpPr>
        <p:spPr>
          <a:xfrm flipH="1">
            <a:off x="3596400" y="1498680"/>
            <a:ext cx="3960" cy="342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97" name="Straight Arrow Connector 181"/>
          <p:cNvCxnSpPr>
            <a:stCxn id="284" idx="2"/>
            <a:endCxn id="289" idx="0"/>
          </p:cNvCxnSpPr>
          <p:nvPr/>
        </p:nvCxnSpPr>
        <p:spPr>
          <a:xfrm>
            <a:off x="7265880" y="1498320"/>
            <a:ext cx="5760" cy="29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98" name="Straight Connector 183"/>
          <p:cNvSpPr/>
          <p:nvPr/>
        </p:nvSpPr>
        <p:spPr>
          <a:xfrm flipH="1" flipV="1">
            <a:off x="5846760" y="1580760"/>
            <a:ext cx="1069920" cy="554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Straight Connector 192"/>
          <p:cNvSpPr/>
          <p:nvPr/>
        </p:nvSpPr>
        <p:spPr>
          <a:xfrm flipV="1">
            <a:off x="5852520" y="1523880"/>
            <a:ext cx="90360" cy="152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0" name="Straight Arrow Connector 197"/>
          <p:cNvCxnSpPr/>
          <p:nvPr/>
        </p:nvCxnSpPr>
        <p:spPr>
          <a:xfrm flipV="1">
            <a:off x="6346800" y="1633320"/>
            <a:ext cx="550080" cy="50184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cxnSp>
        <p:nvCxnSpPr>
          <p:cNvPr id="301" name="Straight Arrow Connector 201"/>
          <p:cNvCxnSpPr>
            <a:stCxn id="267" idx="3"/>
          </p:cNvCxnSpPr>
          <p:nvPr/>
        </p:nvCxnSpPr>
        <p:spPr>
          <a:xfrm flipV="1">
            <a:off x="2731680" y="1676160"/>
            <a:ext cx="865800" cy="524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02" name="Straight Connector 202"/>
          <p:cNvSpPr/>
          <p:nvPr/>
        </p:nvSpPr>
        <p:spPr>
          <a:xfrm flipH="1" flipV="1">
            <a:off x="2224080" y="1752120"/>
            <a:ext cx="966960" cy="34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Straight Connector 203"/>
          <p:cNvSpPr/>
          <p:nvPr/>
        </p:nvSpPr>
        <p:spPr>
          <a:xfrm flipV="1">
            <a:off x="2229840" y="1676160"/>
            <a:ext cx="90360" cy="152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traight Connector 208"/>
          <p:cNvSpPr/>
          <p:nvPr/>
        </p:nvSpPr>
        <p:spPr>
          <a:xfrm flipH="1" flipV="1">
            <a:off x="609120" y="2196720"/>
            <a:ext cx="1133640" cy="3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Straight Connector 210"/>
          <p:cNvSpPr/>
          <p:nvPr/>
        </p:nvSpPr>
        <p:spPr>
          <a:xfrm flipH="1">
            <a:off x="609120" y="304920"/>
            <a:ext cx="1800" cy="1903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Straight Connector 212"/>
          <p:cNvSpPr/>
          <p:nvPr/>
        </p:nvSpPr>
        <p:spPr>
          <a:xfrm>
            <a:off x="611280" y="304920"/>
            <a:ext cx="7618320" cy="2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traight Connector 214"/>
          <p:cNvSpPr/>
          <p:nvPr/>
        </p:nvSpPr>
        <p:spPr>
          <a:xfrm flipH="1">
            <a:off x="4721400" y="331920"/>
            <a:ext cx="1440" cy="1193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traight Connector 217"/>
          <p:cNvSpPr/>
          <p:nvPr/>
        </p:nvSpPr>
        <p:spPr>
          <a:xfrm flipH="1" flipV="1">
            <a:off x="4725720" y="1523520"/>
            <a:ext cx="9126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traight Connector 219"/>
          <p:cNvSpPr/>
          <p:nvPr/>
        </p:nvSpPr>
        <p:spPr>
          <a:xfrm flipH="1">
            <a:off x="5562720" y="1395360"/>
            <a:ext cx="1440" cy="281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Straight Connector 222"/>
          <p:cNvSpPr/>
          <p:nvPr/>
        </p:nvSpPr>
        <p:spPr>
          <a:xfrm flipH="1">
            <a:off x="8229600" y="307800"/>
            <a:ext cx="1440" cy="1370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Straight Connector 224"/>
          <p:cNvSpPr/>
          <p:nvPr/>
        </p:nvSpPr>
        <p:spPr>
          <a:xfrm flipH="1" flipV="1">
            <a:off x="7482960" y="1676520"/>
            <a:ext cx="7448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Straight Connector 226"/>
          <p:cNvSpPr/>
          <p:nvPr/>
        </p:nvSpPr>
        <p:spPr>
          <a:xfrm flipH="1">
            <a:off x="7589880" y="1582560"/>
            <a:ext cx="1440" cy="182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3" name="Straight Arrow Connector 234"/>
          <p:cNvCxnSpPr/>
          <p:nvPr/>
        </p:nvCxnSpPr>
        <p:spPr>
          <a:xfrm>
            <a:off x="6895800" y="1633680"/>
            <a:ext cx="37044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314" name="Group 8"/>
          <p:cNvGrpSpPr/>
          <p:nvPr/>
        </p:nvGrpSpPr>
        <p:grpSpPr>
          <a:xfrm>
            <a:off x="4859280" y="3238200"/>
            <a:ext cx="1027080" cy="571680"/>
            <a:chOff x="4859280" y="3238200"/>
            <a:chExt cx="1027080" cy="571680"/>
          </a:xfrm>
        </p:grpSpPr>
        <p:sp>
          <p:nvSpPr>
            <p:cNvPr id="315" name="Rectangle 236"/>
            <p:cNvSpPr/>
            <p:nvPr/>
          </p:nvSpPr>
          <p:spPr>
            <a:xfrm>
              <a:off x="4859280" y="3422520"/>
              <a:ext cx="10270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ound Same Side Corner Rectangle 237"/>
            <p:cNvSpPr/>
            <p:nvPr/>
          </p:nvSpPr>
          <p:spPr>
            <a:xfrm rot="10800000">
              <a:off x="4920840" y="3238200"/>
              <a:ext cx="606600" cy="2826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TextBox 238"/>
            <p:cNvSpPr/>
            <p:nvPr/>
          </p:nvSpPr>
          <p:spPr>
            <a:xfrm>
              <a:off x="5058360" y="3258360"/>
              <a:ext cx="31428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8" name="Group 20"/>
          <p:cNvGrpSpPr/>
          <p:nvPr/>
        </p:nvGrpSpPr>
        <p:grpSpPr>
          <a:xfrm>
            <a:off x="3087720" y="3276720"/>
            <a:ext cx="988920" cy="538200"/>
            <a:chOff x="3087720" y="3276720"/>
            <a:chExt cx="988920" cy="538200"/>
          </a:xfrm>
        </p:grpSpPr>
        <p:sp>
          <p:nvSpPr>
            <p:cNvPr id="319" name="Rectangle 240"/>
            <p:cNvSpPr/>
            <p:nvPr/>
          </p:nvSpPr>
          <p:spPr>
            <a:xfrm>
              <a:off x="3087720" y="3416400"/>
              <a:ext cx="98892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241"/>
            <p:cNvSpPr/>
            <p:nvPr/>
          </p:nvSpPr>
          <p:spPr>
            <a:xfrm>
              <a:off x="3176640" y="3276720"/>
              <a:ext cx="53172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Box 242"/>
            <p:cNvSpPr/>
            <p:nvPr/>
          </p:nvSpPr>
          <p:spPr>
            <a:xfrm>
              <a:off x="3258360" y="3282480"/>
              <a:ext cx="232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22" name="Straight Arrow Connector 243"/>
          <p:cNvCxnSpPr>
            <a:stCxn id="315" idx="1"/>
            <a:endCxn id="319" idx="3"/>
          </p:cNvCxnSpPr>
          <p:nvPr/>
        </p:nvCxnSpPr>
        <p:spPr>
          <a:xfrm flipH="1" flipV="1">
            <a:off x="4076280" y="3614400"/>
            <a:ext cx="7833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23" name="Straight Connector 248"/>
          <p:cNvSpPr/>
          <p:nvPr/>
        </p:nvSpPr>
        <p:spPr>
          <a:xfrm flipH="1">
            <a:off x="7237080" y="2335320"/>
            <a:ext cx="3240" cy="831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Straight Connector 251"/>
          <p:cNvSpPr/>
          <p:nvPr/>
        </p:nvSpPr>
        <p:spPr>
          <a:xfrm flipH="1" flipV="1">
            <a:off x="4572000" y="3146400"/>
            <a:ext cx="2666880" cy="14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Straight Connector 253"/>
          <p:cNvSpPr/>
          <p:nvPr/>
        </p:nvSpPr>
        <p:spPr>
          <a:xfrm flipH="1">
            <a:off x="4570560" y="3157560"/>
            <a:ext cx="1440" cy="36360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Straight Connector 261"/>
          <p:cNvSpPr/>
          <p:nvPr/>
        </p:nvSpPr>
        <p:spPr>
          <a:xfrm flipH="1">
            <a:off x="1143000" y="3614760"/>
            <a:ext cx="194472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Straight Connector 263"/>
          <p:cNvSpPr/>
          <p:nvPr/>
        </p:nvSpPr>
        <p:spPr>
          <a:xfrm flipV="1">
            <a:off x="1141560" y="1677960"/>
            <a:ext cx="1440" cy="1938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28" name="Straight Arrow Connector 265"/>
          <p:cNvCxnSpPr/>
          <p:nvPr/>
        </p:nvCxnSpPr>
        <p:spPr>
          <a:xfrm>
            <a:off x="1142640" y="1668600"/>
            <a:ext cx="93564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29" name="Straight Connector 267"/>
          <p:cNvSpPr/>
          <p:nvPr/>
        </p:nvSpPr>
        <p:spPr>
          <a:xfrm>
            <a:off x="3648240" y="441360"/>
            <a:ext cx="67932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Straight Connector 268"/>
          <p:cNvSpPr/>
          <p:nvPr/>
        </p:nvSpPr>
        <p:spPr>
          <a:xfrm>
            <a:off x="3648240" y="746280"/>
            <a:ext cx="67932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Straight Connector 270"/>
          <p:cNvSpPr/>
          <p:nvPr/>
        </p:nvSpPr>
        <p:spPr>
          <a:xfrm flipV="1">
            <a:off x="3648240" y="595080"/>
            <a:ext cx="153720" cy="152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Straight Connector 274"/>
          <p:cNvSpPr/>
          <p:nvPr/>
        </p:nvSpPr>
        <p:spPr>
          <a:xfrm flipH="1" flipV="1">
            <a:off x="4157640" y="595080"/>
            <a:ext cx="169920" cy="152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Straight Connector 276"/>
          <p:cNvSpPr/>
          <p:nvPr/>
        </p:nvSpPr>
        <p:spPr>
          <a:xfrm flipH="1" flipV="1">
            <a:off x="3647880" y="442800"/>
            <a:ext cx="169560" cy="152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Straight Connector 277"/>
          <p:cNvSpPr/>
          <p:nvPr/>
        </p:nvSpPr>
        <p:spPr>
          <a:xfrm flipV="1">
            <a:off x="4173480" y="441000"/>
            <a:ext cx="154080" cy="152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Box 278"/>
          <p:cNvSpPr/>
          <p:nvPr/>
        </p:nvSpPr>
        <p:spPr>
          <a:xfrm>
            <a:off x="3818520" y="469800"/>
            <a:ext cx="36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traight Connector 280"/>
          <p:cNvSpPr/>
          <p:nvPr/>
        </p:nvSpPr>
        <p:spPr>
          <a:xfrm flipH="1" flipV="1">
            <a:off x="2971440" y="608040"/>
            <a:ext cx="80172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Straight Connector 284"/>
          <p:cNvSpPr/>
          <p:nvPr/>
        </p:nvSpPr>
        <p:spPr>
          <a:xfrm flipH="1">
            <a:off x="2971800" y="595440"/>
            <a:ext cx="1440" cy="1022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8" name="Straight Arrow Connector 286"/>
          <p:cNvCxnSpPr/>
          <p:nvPr/>
        </p:nvCxnSpPr>
        <p:spPr>
          <a:xfrm flipH="1" flipV="1">
            <a:off x="2083680" y="1599840"/>
            <a:ext cx="8881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39" name="Straight Arrow Connector 290"/>
          <p:cNvCxnSpPr/>
          <p:nvPr/>
        </p:nvCxnSpPr>
        <p:spPr>
          <a:xfrm>
            <a:off x="2971800" y="1601280"/>
            <a:ext cx="535680" cy="16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40" name="Straight Connector 292"/>
          <p:cNvSpPr/>
          <p:nvPr/>
        </p:nvSpPr>
        <p:spPr>
          <a:xfrm flipH="1">
            <a:off x="4325400" y="762120"/>
            <a:ext cx="1800" cy="992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1" name="Straight Arrow Connector 294"/>
          <p:cNvCxnSpPr/>
          <p:nvPr/>
        </p:nvCxnSpPr>
        <p:spPr>
          <a:xfrm>
            <a:off x="4325760" y="1753920"/>
            <a:ext cx="1348560" cy="1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42" name="TextBox 295"/>
          <p:cNvSpPr/>
          <p:nvPr/>
        </p:nvSpPr>
        <p:spPr>
          <a:xfrm>
            <a:off x="1605240" y="4572000"/>
            <a:ext cx="568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badopsis 3 loop model in SBGN-Activity Flow no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Picture 1.png"/>
          <p:cNvPicPr/>
          <p:nvPr/>
        </p:nvPicPr>
        <p:blipFill>
          <a:blip r:embed="rId1"/>
          <a:stretch/>
        </p:blipFill>
        <p:spPr>
          <a:xfrm>
            <a:off x="374760" y="1066680"/>
            <a:ext cx="846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BGN 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bgn.or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ystems Biology Graphical Notation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ature Biotechnology 27, 735 - 741 (2009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://dx.doi.org/10.1038/nbt.155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agrams can help…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Group 13"/>
          <p:cNvGrpSpPr/>
          <p:nvPr/>
        </p:nvGrpSpPr>
        <p:grpSpPr>
          <a:xfrm>
            <a:off x="228600" y="1828800"/>
            <a:ext cx="2322360" cy="3930480"/>
            <a:chOff x="228600" y="1828800"/>
            <a:chExt cx="2322360" cy="3930480"/>
          </a:xfrm>
        </p:grpSpPr>
        <p:sp>
          <p:nvSpPr>
            <p:cNvPr id="146" name="Cloud Callout 9"/>
            <p:cNvSpPr/>
            <p:nvPr/>
          </p:nvSpPr>
          <p:spPr>
            <a:xfrm>
              <a:off x="228600" y="1828800"/>
              <a:ext cx="2285280" cy="20574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7" name="Picture 4" descr="Picture 1.png"/>
            <p:cNvPicPr/>
            <p:nvPr/>
          </p:nvPicPr>
          <p:blipFill>
            <a:blip r:embed="rId1"/>
            <a:stretch/>
          </p:blipFill>
          <p:spPr>
            <a:xfrm>
              <a:off x="1371240" y="4495680"/>
              <a:ext cx="117972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" descr="Picture 2.png"/>
            <p:cNvPicPr/>
            <p:nvPr/>
          </p:nvPicPr>
          <p:blipFill>
            <a:blip r:embed="rId2"/>
            <a:stretch/>
          </p:blipFill>
          <p:spPr>
            <a:xfrm>
              <a:off x="533160" y="4114800"/>
              <a:ext cx="990000" cy="15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Picture 5.png"/>
            <p:cNvPicPr/>
            <p:nvPr/>
          </p:nvPicPr>
          <p:blipFill>
            <a:blip r:embed="rId3"/>
            <a:stretch/>
          </p:blipFill>
          <p:spPr>
            <a:xfrm>
              <a:off x="685440" y="2057400"/>
              <a:ext cx="1218600" cy="14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14"/>
          <p:cNvGrpSpPr/>
          <p:nvPr/>
        </p:nvGrpSpPr>
        <p:grpSpPr>
          <a:xfrm>
            <a:off x="5791320" y="838080"/>
            <a:ext cx="2971800" cy="4429080"/>
            <a:chOff x="5791320" y="838080"/>
            <a:chExt cx="2971800" cy="4429080"/>
          </a:xfrm>
        </p:grpSpPr>
        <p:pic>
          <p:nvPicPr>
            <p:cNvPr id="151" name="Picture 6" descr="Picture 3.png"/>
            <p:cNvPicPr/>
            <p:nvPr/>
          </p:nvPicPr>
          <p:blipFill>
            <a:blip r:embed="rId4"/>
            <a:stretch/>
          </p:blipFill>
          <p:spPr>
            <a:xfrm>
              <a:off x="5791320" y="3657600"/>
              <a:ext cx="16002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Cloud Callout 10"/>
            <p:cNvSpPr/>
            <p:nvPr/>
          </p:nvSpPr>
          <p:spPr>
            <a:xfrm>
              <a:off x="5867280" y="838080"/>
              <a:ext cx="2895840" cy="274356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3" name="Picture 11" descr="Picture 4.png"/>
            <p:cNvPicPr/>
            <p:nvPr/>
          </p:nvPicPr>
          <p:blipFill>
            <a:blip r:embed="rId5"/>
            <a:stretch/>
          </p:blipFill>
          <p:spPr>
            <a:xfrm>
              <a:off x="6489720" y="1295280"/>
              <a:ext cx="1663560" cy="179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Picture 12" descr="Picture 6.png"/>
          <p:cNvPicPr/>
          <p:nvPr/>
        </p:nvPicPr>
        <p:blipFill>
          <a:blip r:embed="rId6"/>
          <a:stretch/>
        </p:blipFill>
        <p:spPr>
          <a:xfrm>
            <a:off x="3048120" y="1752480"/>
            <a:ext cx="24382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BGN drawback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mited tool support as yet – requires dedicated softwa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y standard tools not implementing yet (e.g., Cytoscap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rowheads confusing/ not always implemented (e.g., Powerpoint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change between tool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ck of 3D visualization supp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ture of state transition hard to interpr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BGN future develop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change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rrent spec is just graph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ally could save in one application, open in ano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ent ( entities, connection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notation (semantic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isual appearance (shape / colou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ols for SBG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llDesigner (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celldesigner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P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inburgh Pathway Editor (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pathwayeditor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PD, ER, A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adia  P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nted PD (http://vanted.ipk-gatersleben.de/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utorial – using CellDesigner to explore SBGN-P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3657240"/>
            <a:ext cx="8043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Designer overview and t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rcadian clock model drawing and mode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t from mitosis’ diagr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ng your own’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779760" y="1905120"/>
            <a:ext cx="6672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working knowledge of SBGN-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 to use CellDesigner pathway editing/simulation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utorial contents…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Content Placeholder 4" descr="Picture 2.png"/>
          <p:cNvPicPr/>
          <p:nvPr/>
        </p:nvPicPr>
        <p:blipFill>
          <a:blip r:embed="rId2"/>
          <a:srcRect l="0" t="-2876" r="0" b="-2876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8"/>
          <p:cNvGrpSpPr/>
          <p:nvPr/>
        </p:nvGrpSpPr>
        <p:grpSpPr>
          <a:xfrm>
            <a:off x="2824200" y="857160"/>
            <a:ext cx="5788080" cy="5192640"/>
            <a:chOff x="2824200" y="857160"/>
            <a:chExt cx="5788080" cy="5192640"/>
          </a:xfrm>
        </p:grpSpPr>
        <p:pic>
          <p:nvPicPr>
            <p:cNvPr id="358" name="Picture 5" descr=""/>
            <p:cNvPicPr/>
            <p:nvPr/>
          </p:nvPicPr>
          <p:blipFill>
            <a:blip r:embed="rId2"/>
            <a:stretch/>
          </p:blipFill>
          <p:spPr>
            <a:xfrm>
              <a:off x="2824200" y="1682280"/>
              <a:ext cx="124416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6" descr=""/>
            <p:cNvPicPr/>
            <p:nvPr/>
          </p:nvPicPr>
          <p:blipFill>
            <a:blip r:embed="rId3"/>
            <a:stretch/>
          </p:blipFill>
          <p:spPr>
            <a:xfrm>
              <a:off x="5158800" y="1717200"/>
              <a:ext cx="1231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7" descr=""/>
            <p:cNvPicPr/>
            <p:nvPr/>
          </p:nvPicPr>
          <p:blipFill>
            <a:blip r:embed="rId4"/>
            <a:stretch/>
          </p:blipFill>
          <p:spPr>
            <a:xfrm>
              <a:off x="2828880" y="3297240"/>
              <a:ext cx="1257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"/>
            <p:cNvPicPr/>
            <p:nvPr/>
          </p:nvPicPr>
          <p:blipFill>
            <a:blip r:embed="rId5"/>
            <a:stretch/>
          </p:blipFill>
          <p:spPr>
            <a:xfrm>
              <a:off x="7380720" y="5203440"/>
              <a:ext cx="1231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9" descr=""/>
            <p:cNvPicPr/>
            <p:nvPr/>
          </p:nvPicPr>
          <p:blipFill>
            <a:blip r:embed="rId6"/>
            <a:stretch/>
          </p:blipFill>
          <p:spPr>
            <a:xfrm>
              <a:off x="5317560" y="5173560"/>
              <a:ext cx="9140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0" descr=""/>
            <p:cNvPicPr/>
            <p:nvPr/>
          </p:nvPicPr>
          <p:blipFill>
            <a:blip r:embed="rId7"/>
            <a:stretch/>
          </p:blipFill>
          <p:spPr>
            <a:xfrm>
              <a:off x="2887560" y="5165640"/>
              <a:ext cx="1206360" cy="82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11"/>
            <p:cNvSpPr/>
            <p:nvPr/>
          </p:nvSpPr>
          <p:spPr>
            <a:xfrm>
              <a:off x="3009240" y="868680"/>
              <a:ext cx="572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TextBox 12"/>
            <p:cNvSpPr/>
            <p:nvPr/>
          </p:nvSpPr>
          <p:spPr>
            <a:xfrm>
              <a:off x="5352120" y="880200"/>
              <a:ext cx="84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TextBox 13"/>
            <p:cNvSpPr/>
            <p:nvPr/>
          </p:nvSpPr>
          <p:spPr>
            <a:xfrm>
              <a:off x="7713720" y="857160"/>
              <a:ext cx="56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TextBox 14"/>
            <p:cNvSpPr/>
            <p:nvPr/>
          </p:nvSpPr>
          <p:spPr>
            <a:xfrm>
              <a:off x="7877160" y="1968480"/>
              <a:ext cx="238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TextBox 15"/>
            <p:cNvSpPr/>
            <p:nvPr/>
          </p:nvSpPr>
          <p:spPr>
            <a:xfrm>
              <a:off x="5445720" y="3531600"/>
              <a:ext cx="65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D-M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TextBox 16"/>
            <p:cNvSpPr/>
            <p:nvPr/>
          </p:nvSpPr>
          <p:spPr>
            <a:xfrm>
              <a:off x="7689960" y="3531600"/>
              <a:ext cx="61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BRM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0" name="TextBox 19"/>
          <p:cNvSpPr/>
          <p:nvPr/>
        </p:nvSpPr>
        <p:spPr>
          <a:xfrm>
            <a:off x="1231200" y="1712880"/>
            <a:ext cx="1056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Minim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Box 20"/>
          <p:cNvSpPr/>
          <p:nvPr/>
        </p:nvSpPr>
        <p:spPr>
          <a:xfrm>
            <a:off x="1205640" y="3530520"/>
            <a:ext cx="90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Data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1068840" y="5254560"/>
            <a:ext cx="75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Down Arrow 22"/>
          <p:cNvSpPr/>
          <p:nvPr/>
        </p:nvSpPr>
        <p:spPr>
          <a:xfrm>
            <a:off x="3286080" y="2583000"/>
            <a:ext cx="176400" cy="609480"/>
          </a:xfrm>
          <a:prstGeom prst="downArrow">
            <a:avLst>
              <a:gd name="adj1" fmla="val 50000"/>
              <a:gd name="adj2" fmla="val 4993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Down Arrow 24"/>
          <p:cNvSpPr/>
          <p:nvPr/>
        </p:nvSpPr>
        <p:spPr>
          <a:xfrm>
            <a:off x="5691240" y="2579760"/>
            <a:ext cx="177840" cy="611280"/>
          </a:xfrm>
          <a:prstGeom prst="down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Down Arrow 25"/>
          <p:cNvSpPr/>
          <p:nvPr/>
        </p:nvSpPr>
        <p:spPr>
          <a:xfrm>
            <a:off x="7907400" y="259092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Down Arrow 26"/>
          <p:cNvSpPr/>
          <p:nvPr/>
        </p:nvSpPr>
        <p:spPr>
          <a:xfrm flipV="1">
            <a:off x="3330720" y="430776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Down Arrow 27"/>
          <p:cNvSpPr/>
          <p:nvPr/>
        </p:nvSpPr>
        <p:spPr>
          <a:xfrm flipV="1">
            <a:off x="5699160" y="4307760"/>
            <a:ext cx="177840" cy="609480"/>
          </a:xfrm>
          <a:prstGeom prst="down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Down Arrow 28"/>
          <p:cNvSpPr/>
          <p:nvPr/>
        </p:nvSpPr>
        <p:spPr>
          <a:xfrm flipV="1">
            <a:off x="7904160" y="430776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Box 29"/>
          <p:cNvSpPr/>
          <p:nvPr/>
        </p:nvSpPr>
        <p:spPr>
          <a:xfrm>
            <a:off x="4239000" y="2825640"/>
            <a:ext cx="91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imp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Box 30"/>
          <p:cNvSpPr/>
          <p:nvPr/>
        </p:nvSpPr>
        <p:spPr>
          <a:xfrm>
            <a:off x="6498720" y="2825640"/>
            <a:ext cx="91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imp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Box 32"/>
          <p:cNvSpPr/>
          <p:nvPr/>
        </p:nvSpPr>
        <p:spPr>
          <a:xfrm>
            <a:off x="4308120" y="4433760"/>
            <a:ext cx="702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Makes </a:t>
            </a:r>
            <a:br>
              <a:rPr sz="1800"/>
            </a:b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sense 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Box 33"/>
          <p:cNvSpPr/>
          <p:nvPr/>
        </p:nvSpPr>
        <p:spPr>
          <a:xfrm>
            <a:off x="6397560" y="4433760"/>
            <a:ext cx="110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Makes </a:t>
            </a:r>
            <a:br>
              <a:rPr sz="1800"/>
            </a:b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sense 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42800" y="133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base model to use &amp; which modifications to appl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simulation task to run on those models (algorithms, see KiSAO; simulation parameter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post-process the numerical results and to present th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ebi.ac.uk/compneur-srv/miase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bset of MISE could be encoded i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D-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D-M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code MIASE requir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cription of mode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E138-119E-4D0B-A9B9-80A49AFC0A2D}" type="datetime5">
              <a:rPr b="0" lang="en-US" sz="1200" spc="-1" strike="noStrike">
                <a:solidFill>
                  <a:srgbClr val="000000"/>
                </a:solidFill>
                <a:latin typeface="Verdan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toly Sorok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5" descr=""/>
          <p:cNvPicPr/>
          <p:nvPr/>
        </p:nvPicPr>
        <p:blipFill>
          <a:blip r:embed="rId2"/>
          <a:stretch/>
        </p:blipFill>
        <p:spPr>
          <a:xfrm>
            <a:off x="231840" y="1392120"/>
            <a:ext cx="8737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cription of mode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2"/>
          <a:stretch/>
        </p:blipFill>
        <p:spPr>
          <a:xfrm>
            <a:off x="334800" y="1555920"/>
            <a:ext cx="859644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..but diagrams are of uncertain quality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APC"/>
          <p:cNvPicPr/>
          <p:nvPr/>
        </p:nvPicPr>
        <p:blipFill>
          <a:blip r:embed="rId2"/>
          <a:stretch/>
        </p:blipFill>
        <p:spPr>
          <a:xfrm>
            <a:off x="228600" y="1943280"/>
            <a:ext cx="7848720" cy="438120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3276720" y="3429000"/>
            <a:ext cx="990360" cy="457200"/>
          </a:xfrm>
          <a:prstGeom prst="ellipse">
            <a:avLst/>
          </a:prstGeom>
          <a:noFill/>
          <a:ln w="38160">
            <a:solidFill>
              <a:srgbClr val="b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4343400" y="3657600"/>
            <a:ext cx="838080" cy="457200"/>
          </a:xfrm>
          <a:prstGeom prst="ellipse">
            <a:avLst/>
          </a:prstGeom>
          <a:noFill/>
          <a:ln w="38160">
            <a:solidFill>
              <a:srgbClr val="b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2057400" y="3429000"/>
            <a:ext cx="990720" cy="457200"/>
          </a:xfrm>
          <a:prstGeom prst="ellipse">
            <a:avLst/>
          </a:prstGeom>
          <a:noFill/>
          <a:ln w="38160">
            <a:solidFill>
              <a:srgbClr val="b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2819520" y="3809880"/>
            <a:ext cx="990360" cy="457200"/>
          </a:xfrm>
          <a:prstGeom prst="ellipse">
            <a:avLst/>
          </a:prstGeom>
          <a:noFill/>
          <a:ln w="38160">
            <a:solidFill>
              <a:srgbClr val="b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11" descr="Picture 4.png"/>
          <p:cNvPicPr/>
          <p:nvPr/>
        </p:nvPicPr>
        <p:blipFill>
          <a:blip r:embed="rId3"/>
          <a:stretch/>
        </p:blipFill>
        <p:spPr>
          <a:xfrm>
            <a:off x="6400800" y="1941480"/>
            <a:ext cx="16635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2"/>
          <a:stretch/>
        </p:blipFill>
        <p:spPr>
          <a:xfrm>
            <a:off x="1189080" y="1685880"/>
            <a:ext cx="67942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2"/>
          <a:stretch/>
        </p:blipFill>
        <p:spPr>
          <a:xfrm>
            <a:off x="1854360" y="2394000"/>
            <a:ext cx="5435280" cy="20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tion tas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674352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a gener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2"/>
          <a:stretch/>
        </p:blipFill>
        <p:spPr>
          <a:xfrm>
            <a:off x="739800" y="1889280"/>
            <a:ext cx="76024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a gener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1D61-B09F-4937-80B2-586FC049EC5C}" type="datetime5">
              <a:rPr b="0" lang="en-US" sz="1200" spc="-1" strike="noStrike">
                <a:solidFill>
                  <a:srgbClr val="000000"/>
                </a:solidFill>
                <a:latin typeface="Verdan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toly Sorok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272880" y="387360"/>
            <a:ext cx="85982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duction of resul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toly Sorok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2"/>
          <a:stretch/>
        </p:blipFill>
        <p:spPr>
          <a:xfrm>
            <a:off x="1446120" y="1689120"/>
            <a:ext cx="63626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18"/>
          <p:cNvGrpSpPr/>
          <p:nvPr/>
        </p:nvGrpSpPr>
        <p:grpSpPr>
          <a:xfrm>
            <a:off x="2824200" y="857160"/>
            <a:ext cx="5788080" cy="5192640"/>
            <a:chOff x="2824200" y="857160"/>
            <a:chExt cx="5788080" cy="5192640"/>
          </a:xfrm>
        </p:grpSpPr>
        <p:pic>
          <p:nvPicPr>
            <p:cNvPr id="416" name="Picture 5" descr=""/>
            <p:cNvPicPr/>
            <p:nvPr/>
          </p:nvPicPr>
          <p:blipFill>
            <a:blip r:embed="rId2"/>
            <a:stretch/>
          </p:blipFill>
          <p:spPr>
            <a:xfrm>
              <a:off x="2824200" y="1682280"/>
              <a:ext cx="124416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6" descr=""/>
            <p:cNvPicPr/>
            <p:nvPr/>
          </p:nvPicPr>
          <p:blipFill>
            <a:blip r:embed="rId3"/>
            <a:stretch/>
          </p:blipFill>
          <p:spPr>
            <a:xfrm>
              <a:off x="5158800" y="1717200"/>
              <a:ext cx="1231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"/>
            <p:cNvPicPr/>
            <p:nvPr/>
          </p:nvPicPr>
          <p:blipFill>
            <a:blip r:embed="rId4"/>
            <a:stretch/>
          </p:blipFill>
          <p:spPr>
            <a:xfrm>
              <a:off x="2828880" y="3297240"/>
              <a:ext cx="1257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8" descr=""/>
            <p:cNvPicPr/>
            <p:nvPr/>
          </p:nvPicPr>
          <p:blipFill>
            <a:blip r:embed="rId5"/>
            <a:stretch/>
          </p:blipFill>
          <p:spPr>
            <a:xfrm>
              <a:off x="7380720" y="5203440"/>
              <a:ext cx="1231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9" descr=""/>
            <p:cNvPicPr/>
            <p:nvPr/>
          </p:nvPicPr>
          <p:blipFill>
            <a:blip r:embed="rId6"/>
            <a:stretch/>
          </p:blipFill>
          <p:spPr>
            <a:xfrm>
              <a:off x="5317560" y="5173560"/>
              <a:ext cx="9140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0" descr=""/>
            <p:cNvPicPr/>
            <p:nvPr/>
          </p:nvPicPr>
          <p:blipFill>
            <a:blip r:embed="rId7"/>
            <a:stretch/>
          </p:blipFill>
          <p:spPr>
            <a:xfrm>
              <a:off x="2887560" y="5165640"/>
              <a:ext cx="1206360" cy="82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Box 11"/>
            <p:cNvSpPr/>
            <p:nvPr/>
          </p:nvSpPr>
          <p:spPr>
            <a:xfrm>
              <a:off x="3009240" y="868680"/>
              <a:ext cx="572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Box 12"/>
            <p:cNvSpPr/>
            <p:nvPr/>
          </p:nvSpPr>
          <p:spPr>
            <a:xfrm>
              <a:off x="5352120" y="880200"/>
              <a:ext cx="84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TextBox 13"/>
            <p:cNvSpPr/>
            <p:nvPr/>
          </p:nvSpPr>
          <p:spPr>
            <a:xfrm>
              <a:off x="7713720" y="857160"/>
              <a:ext cx="56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TextBox 14"/>
            <p:cNvSpPr/>
            <p:nvPr/>
          </p:nvSpPr>
          <p:spPr>
            <a:xfrm>
              <a:off x="7877160" y="1968480"/>
              <a:ext cx="238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TextBox 15"/>
            <p:cNvSpPr/>
            <p:nvPr/>
          </p:nvSpPr>
          <p:spPr>
            <a:xfrm>
              <a:off x="5445720" y="3531600"/>
              <a:ext cx="65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D-M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7" name="TextBox 16"/>
            <p:cNvSpPr/>
            <p:nvPr/>
          </p:nvSpPr>
          <p:spPr>
            <a:xfrm>
              <a:off x="7689960" y="3531600"/>
              <a:ext cx="61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BRM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8" name="TextBox 19"/>
          <p:cNvSpPr/>
          <p:nvPr/>
        </p:nvSpPr>
        <p:spPr>
          <a:xfrm>
            <a:off x="1231200" y="1712880"/>
            <a:ext cx="1056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Minim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Box 20"/>
          <p:cNvSpPr/>
          <p:nvPr/>
        </p:nvSpPr>
        <p:spPr>
          <a:xfrm>
            <a:off x="1205640" y="3530520"/>
            <a:ext cx="90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Data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Box 21"/>
          <p:cNvSpPr/>
          <p:nvPr/>
        </p:nvSpPr>
        <p:spPr>
          <a:xfrm>
            <a:off x="1068840" y="5254560"/>
            <a:ext cx="75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Down Arrow 22"/>
          <p:cNvSpPr/>
          <p:nvPr/>
        </p:nvSpPr>
        <p:spPr>
          <a:xfrm>
            <a:off x="3286080" y="2583000"/>
            <a:ext cx="176400" cy="609480"/>
          </a:xfrm>
          <a:prstGeom prst="downArrow">
            <a:avLst>
              <a:gd name="adj1" fmla="val 50000"/>
              <a:gd name="adj2" fmla="val 4993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Down Arrow 24"/>
          <p:cNvSpPr/>
          <p:nvPr/>
        </p:nvSpPr>
        <p:spPr>
          <a:xfrm>
            <a:off x="5691240" y="2579760"/>
            <a:ext cx="177840" cy="611280"/>
          </a:xfrm>
          <a:prstGeom prst="down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Down Arrow 25"/>
          <p:cNvSpPr/>
          <p:nvPr/>
        </p:nvSpPr>
        <p:spPr>
          <a:xfrm>
            <a:off x="7907400" y="259092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Down Arrow 26"/>
          <p:cNvSpPr/>
          <p:nvPr/>
        </p:nvSpPr>
        <p:spPr>
          <a:xfrm flipV="1">
            <a:off x="3330720" y="430776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Down Arrow 27"/>
          <p:cNvSpPr/>
          <p:nvPr/>
        </p:nvSpPr>
        <p:spPr>
          <a:xfrm flipV="1">
            <a:off x="5699160" y="4307760"/>
            <a:ext cx="177840" cy="609480"/>
          </a:xfrm>
          <a:prstGeom prst="down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Down Arrow 28"/>
          <p:cNvSpPr/>
          <p:nvPr/>
        </p:nvSpPr>
        <p:spPr>
          <a:xfrm flipV="1">
            <a:off x="7904160" y="430776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Box 29"/>
          <p:cNvSpPr/>
          <p:nvPr/>
        </p:nvSpPr>
        <p:spPr>
          <a:xfrm>
            <a:off x="4239000" y="2825640"/>
            <a:ext cx="91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imp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Box 30"/>
          <p:cNvSpPr/>
          <p:nvPr/>
        </p:nvSpPr>
        <p:spPr>
          <a:xfrm>
            <a:off x="6498720" y="2825640"/>
            <a:ext cx="91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imp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Box 32"/>
          <p:cNvSpPr/>
          <p:nvPr/>
        </p:nvSpPr>
        <p:spPr>
          <a:xfrm>
            <a:off x="4308120" y="4433760"/>
            <a:ext cx="702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Makes </a:t>
            </a:r>
            <a:br>
              <a:rPr sz="1800"/>
            </a:b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sense 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Box 33"/>
          <p:cNvSpPr/>
          <p:nvPr/>
        </p:nvSpPr>
        <p:spPr>
          <a:xfrm>
            <a:off x="6397560" y="4433760"/>
            <a:ext cx="110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Makes </a:t>
            </a:r>
            <a:br>
              <a:rPr sz="1800"/>
            </a:b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sense 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iSA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inetic Simulation Algorithm Ontolo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ification of simulation algorithms &amp; method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ition, literature referen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tions between different simulation algorithms &amp; method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://www.ebi.ac.uk/compneur-srv/kisao/index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iSA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DE8B-F46E-4883-9D03-C62C3D384B43}" type="datetime5">
              <a:rPr b="0" lang="en-US" sz="1200" spc="-1" strike="noStrike">
                <a:solidFill>
                  <a:srgbClr val="000000"/>
                </a:solidFill>
                <a:latin typeface="Verdana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toly Sorok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7" name="Picture 6" descr=""/>
          <p:cNvPicPr/>
          <p:nvPr/>
        </p:nvPicPr>
        <p:blipFill>
          <a:blip r:embed="rId2"/>
          <a:stretch/>
        </p:blipFill>
        <p:spPr>
          <a:xfrm>
            <a:off x="385920" y="1290600"/>
            <a:ext cx="8393040" cy="4829040"/>
          </a:xfrm>
          <a:prstGeom prst="rect">
            <a:avLst/>
          </a:prstGeom>
          <a:ln w="0">
            <a:noFill/>
          </a:ln>
        </p:spPr>
      </p:pic>
      <p:sp>
        <p:nvSpPr>
          <p:cNvPr id="448" name="TextBox 7"/>
          <p:cNvSpPr/>
          <p:nvPr/>
        </p:nvSpPr>
        <p:spPr>
          <a:xfrm>
            <a:off x="4680720" y="5425920"/>
            <a:ext cx="318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bioportal.bioontology.org/visualize/408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k1 activity regulates APC/C in multiple ways to promote mitotic progression. In early mitosis, Plk1 activity triggers the degradation of Emi1 via SCFß-TRCP, a prerequisite for the generation of an active APC/CCdc20 complex. However, in case of an activated spindle assembly checkpoint, Mad2 </a:t>
            </a:r>
            <a:r>
              <a:rPr b="1" lang="en-US" sz="1200" spc="-1" strike="noStrike">
                <a:solidFill>
                  <a:srgbClr val="b90000"/>
                </a:solidFill>
                <a:latin typeface="Verdana"/>
              </a:rPr>
              <a:t>and/or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bR1 bind to Cdc20, thereby inhibiting the APC/C. Plk1 acts antagonistically to the spindle checkpoint and regulates the kinetochore localization of Mad2. Silencing of the spindle checkpoint enables the formation of active APC/CCdc20 and the degradation of cyclin B1. When Cdc20 is replaced by Cdh1, additional substrates, like Cdc20 itself and Plk1, are degraded. Finally, active APC/CCdh1 allows mitotic exit and entry into the subsequent G1 phas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APC"/>
          <p:cNvPicPr/>
          <p:nvPr/>
        </p:nvPicPr>
        <p:blipFill>
          <a:blip r:embed="rId2"/>
          <a:stretch/>
        </p:blipFill>
        <p:spPr>
          <a:xfrm>
            <a:off x="539640" y="333360"/>
            <a:ext cx="82090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hy the need for a standard notatio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Most pathway diagrams are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mbigu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 amenable to computation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 interpretable without figure lege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‘one-off’ graphical symbols that must be lear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rd to disseminate (colour, line-width, dash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we really need i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4" descr="Picture 1.png"/>
          <p:cNvPicPr/>
          <p:nvPr/>
        </p:nvPicPr>
        <p:blipFill>
          <a:blip r:embed="rId2"/>
          <a:stretch/>
        </p:blipFill>
        <p:spPr>
          <a:xfrm>
            <a:off x="380880" y="1752480"/>
            <a:ext cx="8618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3:49:17Z</dcterms:created>
  <dc:creator>radams</dc:creator>
  <dc:description/>
  <dc:language>en-US</dc:language>
  <cp:lastModifiedBy>Richard Adams</cp:lastModifiedBy>
  <dcterms:modified xsi:type="dcterms:W3CDTF">2010-07-27T14:48:14Z</dcterms:modified>
  <cp:revision>199</cp:revision>
  <dc:subject/>
  <dc:title>Tutorial 2    Systems Biology Graphical Notation in E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