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EBA-75BE-4FD2-9ECB-B7F239D9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single language is too complica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description – not a modelling language but has its concepts in modelling. Diagrams indicate the processes by whic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lecules change each other in temporal sequence -&gt; can form the basis of kinetic modell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ity relationships – these diagrams show independent facts, for example derived from the literat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vity flow – these diagrams indicate how biological activities impact on each other when perhaps not all molecular details are kno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84E8-79A7-490B-9A25-A64810422B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types of glyp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mantically ric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complex ( more nodes ) but unambiguo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our has no meaning.Entity Pool No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F54D-D4D8-4E4D-913C-C9D8DECFB9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14B1-61FA-4E6A-A2FD-5D76E76744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lone mar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talysis gly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tate mar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eactions go L-&gt;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E39A-B057-470A-99A0-1E355E3040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se terms can be added to units of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ll as true today as in 1998 -&gt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ow to reassemble the component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0E58-0C53-47F1-905A-5CED1C5FAE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igger now = necessary stim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107-8110-4434-A8E6-128D373F56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 stimulates LHY transcription. LHY protein returns to nucleus and stimulates PRR transcrip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R –vely regulates LH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n loop: light stimulates GI production , which in turn  activates TOC1. TOC1 –vely regulates GI and stimulates protein 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loop Protein X stimulates LHY production. LHY inhibits transcription of GI and TOC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889-2AC9-4BF3-9AD9-C72F36A51C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 tempo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3BD-9FD0-4987-BD8E-2A1914F33A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action relationshi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6D88-BFD5-4880-A4DB-34C8668D8B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is just literature data, let alone all the data in databases, exptal data etc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2F4-02E3-49A3-939E-D2FEB63F77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olute inhib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BBD-8DBC-4EDA-8671-B82146912B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k about  a single entity rather than pool of entities, here. Hence the ‘Or’ loo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6C16-FC0E-45D1-8097-102AE12E59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) Sequential complex (Name should be 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EEC-8344-4E8E-BDF9-64899AFC30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ch simpler notation – details of reaction mechanisms not consider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532-0DBB-4A04-9AF2-03A154C929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er; omits compartme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coalesce genes and proteins into a single activity if appropri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dynam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404-6886-432B-A74C-C4BA7D93F0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t, depends on the dia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llers need abstract, rigorous, unambigious definition of the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ologists may think more holistically or not have enough information to make a mod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re of distilled in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ion poi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 of modell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41CB-8EEB-4DF2-8BD3-3C30C5159A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6D10-4098-406B-ABE3-A5F3145390B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5044-F600-413F-8F30-1854738F98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xample diagram of the control of exit of mitos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1) Different proteins have different shapes &amp; colours – why? Is this meaningful or just artistic licenc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2) All transitions are just arrows – presumably ‘activation’ but could be transloca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3) What is the nature of inhibition? Enzymatic inhibition? Degrada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4) Missing information – Mad2 OR Bub1 are sufficient to inhibit AP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5) What are sources and sink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) Number of ubiquitation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eds long and complex figure legend to understand the diagra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527-F7AA-404A-B325-49853D93DD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5516-3ABE-47DA-BBD4-CE67528D43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Line width/dashe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hard to reproduce, may be lost by photocopying, hand-draw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lou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photpcop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pecific symbo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dentical line terminators used to mean different 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it diagram of a radio ( from Lazebnik, 2001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640-0C5B-449B-A636-98CD2D4E4C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51C-2825-4B69-AFAC-2747C018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E99-AE34-4762-BABF-00F3A1C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0F2-906B-482D-ADD4-B0141C53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07E-D730-4E4E-A355-E330C2F4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A42-F2F4-43F6-AC7D-A45887B3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54D5-70B8-4F01-B984-56EB139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F97B-E263-4B0C-A7A3-535A8DDD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A8C3-DBA8-4429-8F3D-1CE05E3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45C-4370-4E1E-9760-9DADD1A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83A4-B09B-411F-95F8-ED0A88C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8DDC-0594-45C5-A402-2C65DA6D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BB7-63C1-4E47-8379-B7E4C44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0D4B-BCF2-43DA-94F3-1D09294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8487-1235-4A41-9513-83D47A4F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A7C7-4F48-4F50-A8A3-C91BE45A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0786-B0ED-4637-9DD3-4C15D981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2B0C-820C-4112-A606-EC677248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1F0BB-64C9-40EF-AE26-C61FFDDA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4908-B302-4587-89F3-57BE4FD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3421-E6C7-45F4-B24F-E14FD245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F885-480A-4669-9986-4BDDA0DD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021F-682F-4E47-9A14-7DF8B4D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823-CCDF-4D0D-A8A7-123EB721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5200-25F9-468A-B5A1-3374E0A5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ABB3-F01F-49F7-8577-192999C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C755-4262-4121-9988-677BC19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B0C5-C5D2-43E4-9E02-790C0F4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19ED-FDC5-4DDB-9941-4DD3F03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01F8-7A20-4CB2-8678-8B8E12C9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39BF-8154-44BB-BB45-88A39992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66B-AE76-4EB3-9BEC-5405A471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638-8918-46F1-84D1-A11E361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148-5B5A-4683-B24E-86076EE8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389-D8C4-47D6-ACA7-D96E64D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19B-E4F5-4B20-A689-494DB65D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EC5-B242-4646-BBFD-C106C98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020-72D7-4500-A27B-C6B423A57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2929-31B4-426E-9BB5-B0C01150F1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F7F6-44FE-44D7-BB15-30F1E75DB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7D4-1534-450B-B803-01D9FCE7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ldesigner.org/" TargetMode="External"/><Relationship Id="rId3" Type="http://schemas.openxmlformats.org/officeDocument/2006/relationships/hyperlink" Target="http://www.pathwayeditor.org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bgn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lldesigner.org/" TargetMode="External"/><Relationship Id="rId3" Type="http://schemas.openxmlformats.org/officeDocument/2006/relationships/hyperlink" Target="http://www.pathwayeditor.org/" TargetMode="Externa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.ac.uk/compneur-srv/miase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ystems Biology Graphical No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887480" y="4235400"/>
            <a:ext cx="462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07120" y="3352680"/>
            <a:ext cx="66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chard Ad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entre for Systems Biology, Edinbur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sbgn-logo.jpg"/>
          <p:cNvPicPr/>
          <p:nvPr/>
        </p:nvPicPr>
        <p:blipFill>
          <a:blip r:embed="rId2"/>
          <a:stretch/>
        </p:blipFill>
        <p:spPr>
          <a:xfrm>
            <a:off x="457200" y="5664240"/>
            <a:ext cx="23367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bbsrc.gif"/>
          <p:cNvPicPr/>
          <p:nvPr/>
        </p:nvPicPr>
        <p:blipFill>
          <a:blip r:embed="rId3"/>
          <a:stretch/>
        </p:blipFill>
        <p:spPr>
          <a:xfrm>
            <a:off x="6324480" y="5562720"/>
            <a:ext cx="221004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"/>
              </a:rPr>
              <a:t>SBGN goal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 the graphical notation used to represent biological proces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ingle diagram has a single mea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lf-explana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enable to compu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le to cope with missing/incomplete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cesses to be drawn at different levels of granular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restricted in 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dependent on single software produ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drawn by hand or printed without loss of inform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in community workshops since 20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kes best ideas from several graphical not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rsion 1 spec released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ed by BBSRC, NEDO (Japan), EML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ordinated by 5 edito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me tools for SB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Designe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elldesigne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inburgh Pathway Edito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pathwayedito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PD, ER, 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adia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D http://sourceforge.net/projects/arcadiapathways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ed PD (http://vanted.ipk-gatersleben.de/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ree types of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Descrip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ity Relationsh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ivity Fl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96360" cy="5899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5703840" y="533520"/>
            <a:ext cx="243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totic exit in SBGN-P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 SBGN Process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448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Categories of glyphs in SBGN-PD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main types of visual features,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lyph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tity pool nod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ing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cess nodes,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lin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nsformation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hing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)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Logical operato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oolean log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tainment nod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represent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hysical restri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estricted vocabular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ystems Biology Ontology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SBO) is used to provide a restricted vocabulary of terms for use in SBGN diagrams. For example, several commo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material  type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f entity 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macromolecular ion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3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n-macromolecular radical mt:rad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3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bonucleic ac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r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oxribonucleic acid           mt:dn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5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e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mt:pro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lysacchar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mt:psac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BO:00002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Restricted vocabularie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thin a diagram, an entity can be labeled with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onceptual typ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ch indicates its role in the pathwa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ge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24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cription start sit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ts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2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 coding regio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coding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3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 regulatory region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gr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36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ssenger R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t:mRN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BO:000027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se can be used to annotate various entities, by inserting this information in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Unit of Inform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Unspecified ent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Macromolec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imple compou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Nucleic acid fea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Multi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of these entities can hold (or ‘contain’)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clone markers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units of inform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In addition, macromolecules, nucleic acid features and multimers can hol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lyp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allenge of reconstructing complex syst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2057400"/>
            <a:ext cx="861084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"The greatest challenge today, not just in cell biology and ecology but in all of science, is the accurate and complete description of complex syst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sts have broken down many kinds of systems. They think they know most of the elements and for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next task is to reassemble them, at least in mathematical model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t capture the key properties of the entire ensembles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.O. Wilson –’Consilience’ 199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3201840" cy="2655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1023840" y="107172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830960" y="776160"/>
            <a:ext cx="273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ntity nod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4737240" y="1905120"/>
            <a:ext cx="3720960" cy="2819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1828800" y="5334120"/>
            <a:ext cx="47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one markers are  only needed for complexes in identical sta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7412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tain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tainer nodes are used to hold multiple entity nodes, to arbitrary levels of complex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lex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 - to represent macromolecular complex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Compartment –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o represent a physically restricted location in the c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Submap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– indicating a complex process that should be mentioned, but whose details we are not concerned with in this particular diagra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tain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6799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cess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hese nodes represent transformation. They ar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Process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: a generic, widely used  glyph representing any transform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Uncertain process –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can represent unknown or hypothetical process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Omitted process –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process whose details we are not concerned with in this path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Association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  - the non-covalent binding of 2 or more entity nodes into a larger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</a:rPr>
              <a:t>Dissociation  - 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 the breaking up of such a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Process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5891040" cy="10130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09480" y="4572000"/>
            <a:ext cx="8001000" cy="510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ociation    Dissoci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Transi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certain process    Omitted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6"/>
          <p:cNvSpPr/>
          <p:nvPr/>
        </p:nvSpPr>
        <p:spPr>
          <a:xfrm flipV="1">
            <a:off x="1219320" y="3581280"/>
            <a:ext cx="285480" cy="914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2600280" y="3580920"/>
            <a:ext cx="304920" cy="1016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8"/>
          <p:cNvSpPr/>
          <p:nvPr/>
        </p:nvSpPr>
        <p:spPr>
          <a:xfrm flipV="1">
            <a:off x="4154400" y="3581280"/>
            <a:ext cx="4608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5724360" y="3580920"/>
            <a:ext cx="180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0"/>
          <p:cNvSpPr/>
          <p:nvPr/>
        </p:nvSpPr>
        <p:spPr>
          <a:xfrm flipH="1" flipV="1">
            <a:off x="6943320" y="3580920"/>
            <a:ext cx="142920" cy="79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xample - dissoci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60037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Arcs connect entities with processes. In SBGN, the following types of arc exist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onsumption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 links substrates to a reaction transi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roduction     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 links a reaction transition to a produ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Modulation    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dicates that an entity has either an          unknown, or variable effect on a   reaction proce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atalysis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pecial case of sti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Stimulation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creases reaction flu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Inhibition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decreases reaction flux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this is an ‘absolute’ stimulation that is essential for the transition to occu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Logic arc        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connects logic gates to their input and output no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Equivalence arc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indicates that an entity is equivalent to a </a:t>
            </a:r>
            <a:r>
              <a:rPr b="0" i="1" lang="en-GB" sz="1900" spc="-1" strike="noStrike">
                <a:solidFill>
                  <a:srgbClr val="000000"/>
                </a:solidFill>
                <a:latin typeface="Verdana"/>
              </a:rPr>
              <a:t>tag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ng ar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102200" cy="2984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4427640" y="2565360"/>
            <a:ext cx="44463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Oth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sink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nodes are used to denote an unspecified  starting and ending points of a pathwa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erturbation 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dicate some external stimulus on the system – e.g., lig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Phenotype </a:t>
            </a: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 an externally visible alteration or biochemical proces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lone marke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GoldbeterReactions.png"/>
          <p:cNvPicPr/>
          <p:nvPr/>
        </p:nvPicPr>
        <p:blipFill>
          <a:blip r:embed="rId2"/>
          <a:srcRect l="-11158" t="0" r="-11158" b="0"/>
          <a:stretch/>
        </p:blipFill>
        <p:spPr>
          <a:xfrm>
            <a:off x="566640" y="1676520"/>
            <a:ext cx="842976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GoldbeterDrosophilaClockReactions.png"/>
          <p:cNvPicPr/>
          <p:nvPr/>
        </p:nvPicPr>
        <p:blipFill>
          <a:blip r:embed="rId3"/>
          <a:stretch/>
        </p:blipFill>
        <p:spPr>
          <a:xfrm>
            <a:off x="457200" y="838080"/>
            <a:ext cx="8381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Other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82281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vity of entity no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343480" cy="3657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56280" y="1989000"/>
            <a:ext cx="2116080" cy="22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d this 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[row] can have a [column] as [input or output]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851280" y="3573360"/>
            <a:ext cx="360360" cy="19432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Connectivity of proc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172120" cy="35240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6516720" y="2421000"/>
            <a:ext cx="178128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ad this 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[row] arc can have a [column] as [input or output]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876920" cy="5338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4050000" y="1447920"/>
            <a:ext cx="4089960" cy="21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ociation of transcription factors to p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RF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th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stimulu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rrows for transcription 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ns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24000" y="457200"/>
            <a:ext cx="8496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621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abidopsis Circadian clock 3 loop mod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48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0" y="182520"/>
            <a:ext cx="87202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ity relationship diagra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Content Placeholder 3" descr="Picture 1.png"/>
          <p:cNvPicPr/>
          <p:nvPr/>
        </p:nvPicPr>
        <p:blipFill>
          <a:blip r:embed="rId2"/>
          <a:srcRect l="-20472" t="0" r="-20472" b="0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entity interactors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Content Placeholder 5" descr="PCR1.png"/>
          <p:cNvPicPr/>
          <p:nvPr/>
        </p:nvPicPr>
        <p:blipFill>
          <a:blip r:embed="rId2"/>
          <a:srcRect l="-17534" t="0" r="-17534" b="0"/>
          <a:stretch/>
        </p:blipFill>
        <p:spPr>
          <a:xfrm>
            <a:off x="1600200" y="2514600"/>
            <a:ext cx="485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ng relationship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6" descr="PCR2.png"/>
          <p:cNvPicPr/>
          <p:nvPr/>
        </p:nvPicPr>
        <p:blipFill>
          <a:blip r:embed="rId2"/>
          <a:stretch/>
        </p:blipFill>
        <p:spPr>
          <a:xfrm>
            <a:off x="2438280" y="1981080"/>
            <a:ext cx="37227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re’s a lot of information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ubMed has 19,953,959 publications dating 1860-201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Growing at 2 per min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ow to assemble information suitable for modellin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ng influence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3" descr="PCR3.png"/>
          <p:cNvPicPr/>
          <p:nvPr/>
        </p:nvPicPr>
        <p:blipFill>
          <a:blip r:embed="rId2"/>
          <a:stretch/>
        </p:blipFill>
        <p:spPr>
          <a:xfrm>
            <a:off x="1447920" y="1676520"/>
            <a:ext cx="53337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PCR4.png"/>
          <p:cNvPicPr/>
          <p:nvPr/>
        </p:nvPicPr>
        <p:blipFill>
          <a:blip r:embed="rId2"/>
          <a:stretch/>
        </p:blipFill>
        <p:spPr>
          <a:xfrm>
            <a:off x="2057400" y="2057400"/>
            <a:ext cx="4726080" cy="4267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influence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utcomes and their influences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3" descr="PCR_final.png"/>
          <p:cNvPicPr/>
          <p:nvPr/>
        </p:nvPicPr>
        <p:blipFill>
          <a:blip r:embed="rId2"/>
          <a:stretch/>
        </p:blipFill>
        <p:spPr>
          <a:xfrm>
            <a:off x="1143000" y="1828800"/>
            <a:ext cx="5562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fs in SBGN-ER -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Content Placeholder 3" descr="P-dependent_binding.png"/>
          <p:cNvPicPr/>
          <p:nvPr/>
        </p:nvPicPr>
        <p:blipFill>
          <a:blip r:embed="rId2"/>
          <a:srcRect l="-3915" t="0" r="-3915" b="0"/>
          <a:stretch/>
        </p:blipFill>
        <p:spPr>
          <a:xfrm>
            <a:off x="4267080" y="2362320"/>
            <a:ext cx="4429080" cy="236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ultimerFormation.png"/>
          <p:cNvPicPr/>
          <p:nvPr/>
        </p:nvPicPr>
        <p:blipFill>
          <a:blip r:embed="rId3"/>
          <a:stretch/>
        </p:blipFill>
        <p:spPr>
          <a:xfrm>
            <a:off x="838080" y="2133720"/>
            <a:ext cx="3429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fs in SBGN-ER -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Content Placeholder 3" descr="MutExclusiveBinding.png"/>
          <p:cNvPicPr/>
          <p:nvPr/>
        </p:nvPicPr>
        <p:blipFill>
          <a:blip r:embed="rId2"/>
          <a:srcRect l="0" t="-5618" r="0" b="-5618"/>
          <a:stretch/>
        </p:blipFill>
        <p:spPr>
          <a:xfrm>
            <a:off x="304920" y="1752480"/>
            <a:ext cx="5857920" cy="3124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equential Binding.png"/>
          <p:cNvPicPr/>
          <p:nvPr/>
        </p:nvPicPr>
        <p:blipFill>
          <a:blip r:embed="rId3"/>
          <a:stretch/>
        </p:blipFill>
        <p:spPr>
          <a:xfrm>
            <a:off x="838080" y="2819520"/>
            <a:ext cx="5435640" cy="3467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oopBinding.png"/>
          <p:cNvPicPr/>
          <p:nvPr/>
        </p:nvPicPr>
        <p:blipFill>
          <a:blip r:embed="rId4"/>
          <a:stretch/>
        </p:blipFill>
        <p:spPr>
          <a:xfrm>
            <a:off x="3733920" y="2133720"/>
            <a:ext cx="49212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 more complex exampl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4" descr="Picture 2.png"/>
          <p:cNvPicPr/>
          <p:nvPr/>
        </p:nvPicPr>
        <p:blipFill>
          <a:blip r:embed="rId2"/>
          <a:srcRect l="0" t="-12462" r="0" b="-1246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vity flow no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Content Placeholder 4" descr="Picture 2.png"/>
          <p:cNvPicPr/>
          <p:nvPr/>
        </p:nvPicPr>
        <p:blipFill>
          <a:blip r:embed="rId2"/>
          <a:srcRect l="-12391" t="0" r="-12391" b="0"/>
          <a:stretch/>
        </p:blipFill>
        <p:spPr>
          <a:xfrm>
            <a:off x="609480" y="1828800"/>
            <a:ext cx="69771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8"/>
          <p:cNvGrpSpPr/>
          <p:nvPr/>
        </p:nvGrpSpPr>
        <p:grpSpPr>
          <a:xfrm>
            <a:off x="1565280" y="899640"/>
            <a:ext cx="1027080" cy="572040"/>
            <a:chOff x="1565280" y="899640"/>
            <a:chExt cx="1027080" cy="572040"/>
          </a:xfrm>
        </p:grpSpPr>
        <p:sp>
          <p:nvSpPr>
            <p:cNvPr id="263" name="Rectangle 6"/>
            <p:cNvSpPr/>
            <p:nvPr/>
          </p:nvSpPr>
          <p:spPr>
            <a:xfrm>
              <a:off x="1565280" y="10843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ound Same Side Corner Rectangle 3"/>
            <p:cNvSpPr/>
            <p:nvPr/>
          </p:nvSpPr>
          <p:spPr>
            <a:xfrm rot="10800000">
              <a:off x="1627200" y="899640"/>
              <a:ext cx="82728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TextBox 4"/>
            <p:cNvSpPr/>
            <p:nvPr/>
          </p:nvSpPr>
          <p:spPr>
            <a:xfrm>
              <a:off x="1764360" y="913680"/>
              <a:ext cx="5324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H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1743120" y="1862280"/>
            <a:ext cx="988920" cy="536400"/>
            <a:chOff x="1743120" y="1862280"/>
            <a:chExt cx="988920" cy="536400"/>
          </a:xfrm>
        </p:grpSpPr>
        <p:sp>
          <p:nvSpPr>
            <p:cNvPr id="267" name="Rectangle 50"/>
            <p:cNvSpPr/>
            <p:nvPr/>
          </p:nvSpPr>
          <p:spPr>
            <a:xfrm>
              <a:off x="1743120" y="200016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1832040" y="186228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TextBox 52"/>
            <p:cNvSpPr/>
            <p:nvPr/>
          </p:nvSpPr>
          <p:spPr>
            <a:xfrm>
              <a:off x="1913400" y="1868040"/>
              <a:ext cx="342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H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70" name="Straight Arrow Connector 54"/>
          <p:cNvCxnSpPr>
            <a:stCxn id="263" idx="2"/>
            <a:endCxn id="269" idx="0"/>
          </p:cNvCxnSpPr>
          <p:nvPr/>
        </p:nvCxnSpPr>
        <p:spPr>
          <a:xfrm>
            <a:off x="2077920" y="1471680"/>
            <a:ext cx="7200" cy="3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271" name="Group 8"/>
          <p:cNvGrpSpPr/>
          <p:nvPr/>
        </p:nvGrpSpPr>
        <p:grpSpPr>
          <a:xfrm>
            <a:off x="3087720" y="926640"/>
            <a:ext cx="1027080" cy="572040"/>
            <a:chOff x="3087720" y="926640"/>
            <a:chExt cx="1027080" cy="572040"/>
          </a:xfrm>
        </p:grpSpPr>
        <p:sp>
          <p:nvSpPr>
            <p:cNvPr id="272" name="Rectangle 57"/>
            <p:cNvSpPr/>
            <p:nvPr/>
          </p:nvSpPr>
          <p:spPr>
            <a:xfrm>
              <a:off x="3087720" y="11113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ound Same Side Corner Rectangle 58"/>
            <p:cNvSpPr/>
            <p:nvPr/>
          </p:nvSpPr>
          <p:spPr>
            <a:xfrm rot="10800000">
              <a:off x="3149640" y="926640"/>
              <a:ext cx="82728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TextBox 59"/>
            <p:cNvSpPr/>
            <p:nvPr/>
          </p:nvSpPr>
          <p:spPr>
            <a:xfrm>
              <a:off x="3286800" y="940680"/>
              <a:ext cx="5324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" name="Group 20"/>
          <p:cNvGrpSpPr/>
          <p:nvPr/>
        </p:nvGrpSpPr>
        <p:grpSpPr>
          <a:xfrm>
            <a:off x="3241800" y="1839960"/>
            <a:ext cx="990360" cy="538200"/>
            <a:chOff x="3241800" y="1839960"/>
            <a:chExt cx="990360" cy="538200"/>
          </a:xfrm>
        </p:grpSpPr>
        <p:sp>
          <p:nvSpPr>
            <p:cNvPr id="276" name="Rectangle 62"/>
            <p:cNvSpPr/>
            <p:nvPr/>
          </p:nvSpPr>
          <p:spPr>
            <a:xfrm>
              <a:off x="3241800" y="1979640"/>
              <a:ext cx="99036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3330360" y="183996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TextBox 64"/>
            <p:cNvSpPr/>
            <p:nvPr/>
          </p:nvSpPr>
          <p:spPr>
            <a:xfrm>
              <a:off x="3445560" y="184572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373720" y="1925640"/>
            <a:ext cx="988920" cy="536400"/>
            <a:chOff x="5373720" y="1925640"/>
            <a:chExt cx="988920" cy="536400"/>
          </a:xfrm>
        </p:grpSpPr>
        <p:sp>
          <p:nvSpPr>
            <p:cNvPr id="280" name="Rectangle 142"/>
            <p:cNvSpPr/>
            <p:nvPr/>
          </p:nvSpPr>
          <p:spPr>
            <a:xfrm>
              <a:off x="5373720" y="206352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143"/>
            <p:cNvSpPr/>
            <p:nvPr/>
          </p:nvSpPr>
          <p:spPr>
            <a:xfrm>
              <a:off x="5462640" y="192564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Box 144"/>
            <p:cNvSpPr/>
            <p:nvPr/>
          </p:nvSpPr>
          <p:spPr>
            <a:xfrm>
              <a:off x="5549760" y="1931400"/>
              <a:ext cx="23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6751800" y="926640"/>
            <a:ext cx="1028520" cy="572040"/>
            <a:chOff x="6751800" y="926640"/>
            <a:chExt cx="1028520" cy="572040"/>
          </a:xfrm>
        </p:grpSpPr>
        <p:sp>
          <p:nvSpPr>
            <p:cNvPr id="284" name="Rectangle 147"/>
            <p:cNvSpPr/>
            <p:nvPr/>
          </p:nvSpPr>
          <p:spPr>
            <a:xfrm>
              <a:off x="6751800" y="1111320"/>
              <a:ext cx="1028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ound Same Side Corner Rectangle 148"/>
            <p:cNvSpPr/>
            <p:nvPr/>
          </p:nvSpPr>
          <p:spPr>
            <a:xfrm rot="10800000">
              <a:off x="6813720" y="926640"/>
              <a:ext cx="828720" cy="312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TextBox 149"/>
            <p:cNvSpPr/>
            <p:nvPr/>
          </p:nvSpPr>
          <p:spPr>
            <a:xfrm>
              <a:off x="6951240" y="940680"/>
              <a:ext cx="5331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C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6916680" y="1797120"/>
            <a:ext cx="990720" cy="538200"/>
            <a:chOff x="6916680" y="1797120"/>
            <a:chExt cx="990720" cy="538200"/>
          </a:xfrm>
        </p:grpSpPr>
        <p:sp>
          <p:nvSpPr>
            <p:cNvPr id="288" name="Rectangle 151"/>
            <p:cNvSpPr/>
            <p:nvPr/>
          </p:nvSpPr>
          <p:spPr>
            <a:xfrm>
              <a:off x="6916680" y="1936800"/>
              <a:ext cx="9907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152"/>
            <p:cNvSpPr/>
            <p:nvPr/>
          </p:nvSpPr>
          <p:spPr>
            <a:xfrm>
              <a:off x="7005600" y="179712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Box 153"/>
            <p:cNvSpPr/>
            <p:nvPr/>
          </p:nvSpPr>
          <p:spPr>
            <a:xfrm>
              <a:off x="7128720" y="1802880"/>
              <a:ext cx="404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C1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1" name="Group 8"/>
          <p:cNvGrpSpPr/>
          <p:nvPr/>
        </p:nvGrpSpPr>
        <p:grpSpPr>
          <a:xfrm>
            <a:off x="5219640" y="747720"/>
            <a:ext cx="1027080" cy="571320"/>
            <a:chOff x="5219640" y="747720"/>
            <a:chExt cx="1027080" cy="571320"/>
          </a:xfrm>
        </p:grpSpPr>
        <p:sp>
          <p:nvSpPr>
            <p:cNvPr id="292" name="Rectangle 156"/>
            <p:cNvSpPr/>
            <p:nvPr/>
          </p:nvSpPr>
          <p:spPr>
            <a:xfrm>
              <a:off x="5219640" y="93168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Round Same Side Corner Rectangle 157"/>
            <p:cNvSpPr/>
            <p:nvPr/>
          </p:nvSpPr>
          <p:spPr>
            <a:xfrm rot="10800000">
              <a:off x="5281560" y="747720"/>
              <a:ext cx="565200" cy="312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TextBox 158"/>
            <p:cNvSpPr/>
            <p:nvPr/>
          </p:nvSpPr>
          <p:spPr>
            <a:xfrm>
              <a:off x="5418720" y="761400"/>
              <a:ext cx="25524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295" name="Straight Arrow Connector 177"/>
          <p:cNvCxnSpPr>
            <a:stCxn id="292" idx="2"/>
            <a:endCxn id="281" idx="0"/>
          </p:cNvCxnSpPr>
          <p:nvPr/>
        </p:nvCxnSpPr>
        <p:spPr>
          <a:xfrm flipH="1">
            <a:off x="5727240" y="1318680"/>
            <a:ext cx="5760" cy="607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6" name="Straight Arrow Connector 179"/>
          <p:cNvCxnSpPr>
            <a:stCxn id="272" idx="2"/>
            <a:endCxn id="277" idx="0"/>
          </p:cNvCxnSpPr>
          <p:nvPr/>
        </p:nvCxnSpPr>
        <p:spPr>
          <a:xfrm flipH="1">
            <a:off x="3596400" y="1498680"/>
            <a:ext cx="3960" cy="342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7" name="Straight Arrow Connector 181"/>
          <p:cNvCxnSpPr>
            <a:stCxn id="284" idx="2"/>
            <a:endCxn id="289" idx="0"/>
          </p:cNvCxnSpPr>
          <p:nvPr/>
        </p:nvCxnSpPr>
        <p:spPr>
          <a:xfrm>
            <a:off x="7265880" y="1498320"/>
            <a:ext cx="5760" cy="299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98" name="Straight Connector 183"/>
          <p:cNvSpPr/>
          <p:nvPr/>
        </p:nvSpPr>
        <p:spPr>
          <a:xfrm flipH="1" flipV="1">
            <a:off x="5846760" y="1580760"/>
            <a:ext cx="1069920" cy="5540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Straight Connector 192"/>
          <p:cNvSpPr/>
          <p:nvPr/>
        </p:nvSpPr>
        <p:spPr>
          <a:xfrm flipV="1">
            <a:off x="5852520" y="1523880"/>
            <a:ext cx="9036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0" name="Straight Arrow Connector 197"/>
          <p:cNvCxnSpPr/>
          <p:nvPr/>
        </p:nvCxnSpPr>
        <p:spPr>
          <a:xfrm flipV="1">
            <a:off x="6346800" y="1633320"/>
            <a:ext cx="550080" cy="501840"/>
          </a:xfrm>
          <a:prstGeom prst="straightConnector1">
            <a:avLst/>
          </a:prstGeom>
          <a:ln w="25560">
            <a:solidFill>
              <a:srgbClr val="4f81bd"/>
            </a:solidFill>
            <a:miter/>
          </a:ln>
        </p:spPr>
      </p:cxnSp>
      <p:cxnSp>
        <p:nvCxnSpPr>
          <p:cNvPr id="301" name="Straight Arrow Connector 201"/>
          <p:cNvCxnSpPr>
            <a:stCxn id="267" idx="3"/>
          </p:cNvCxnSpPr>
          <p:nvPr/>
        </p:nvCxnSpPr>
        <p:spPr>
          <a:xfrm flipV="1">
            <a:off x="2731680" y="1676160"/>
            <a:ext cx="865800" cy="524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02" name="Straight Connector 202"/>
          <p:cNvSpPr/>
          <p:nvPr/>
        </p:nvSpPr>
        <p:spPr>
          <a:xfrm flipH="1" flipV="1">
            <a:off x="2224080" y="1752120"/>
            <a:ext cx="966960" cy="344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Straight Connector 203"/>
          <p:cNvSpPr/>
          <p:nvPr/>
        </p:nvSpPr>
        <p:spPr>
          <a:xfrm flipV="1">
            <a:off x="2229840" y="1676160"/>
            <a:ext cx="9036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traight Connector 208"/>
          <p:cNvSpPr/>
          <p:nvPr/>
        </p:nvSpPr>
        <p:spPr>
          <a:xfrm flipH="1" flipV="1">
            <a:off x="609120" y="2196720"/>
            <a:ext cx="1133640" cy="3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210"/>
          <p:cNvSpPr/>
          <p:nvPr/>
        </p:nvSpPr>
        <p:spPr>
          <a:xfrm flipH="1">
            <a:off x="609120" y="304920"/>
            <a:ext cx="1800" cy="1903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Straight Connector 212"/>
          <p:cNvSpPr/>
          <p:nvPr/>
        </p:nvSpPr>
        <p:spPr>
          <a:xfrm>
            <a:off x="611280" y="304920"/>
            <a:ext cx="7618320" cy="2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214"/>
          <p:cNvSpPr/>
          <p:nvPr/>
        </p:nvSpPr>
        <p:spPr>
          <a:xfrm flipH="1">
            <a:off x="4721400" y="331920"/>
            <a:ext cx="1440" cy="1193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217"/>
          <p:cNvSpPr/>
          <p:nvPr/>
        </p:nvSpPr>
        <p:spPr>
          <a:xfrm flipH="1" flipV="1">
            <a:off x="4725720" y="1523520"/>
            <a:ext cx="9126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19"/>
          <p:cNvSpPr/>
          <p:nvPr/>
        </p:nvSpPr>
        <p:spPr>
          <a:xfrm flipH="1">
            <a:off x="5562720" y="1395360"/>
            <a:ext cx="1440" cy="281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Straight Connector 222"/>
          <p:cNvSpPr/>
          <p:nvPr/>
        </p:nvSpPr>
        <p:spPr>
          <a:xfrm flipH="1">
            <a:off x="8229600" y="307800"/>
            <a:ext cx="1440" cy="1370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224"/>
          <p:cNvSpPr/>
          <p:nvPr/>
        </p:nvSpPr>
        <p:spPr>
          <a:xfrm flipH="1" flipV="1">
            <a:off x="7482960" y="1676520"/>
            <a:ext cx="744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traight Connector 226"/>
          <p:cNvSpPr/>
          <p:nvPr/>
        </p:nvSpPr>
        <p:spPr>
          <a:xfrm flipH="1">
            <a:off x="7589880" y="1582560"/>
            <a:ext cx="1440" cy="182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3" name="Straight Arrow Connector 234"/>
          <p:cNvCxnSpPr/>
          <p:nvPr/>
        </p:nvCxnSpPr>
        <p:spPr>
          <a:xfrm>
            <a:off x="6895800" y="1633680"/>
            <a:ext cx="3704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14" name="Group 8"/>
          <p:cNvGrpSpPr/>
          <p:nvPr/>
        </p:nvGrpSpPr>
        <p:grpSpPr>
          <a:xfrm>
            <a:off x="4859280" y="3238200"/>
            <a:ext cx="1027080" cy="571680"/>
            <a:chOff x="4859280" y="3238200"/>
            <a:chExt cx="1027080" cy="571680"/>
          </a:xfrm>
        </p:grpSpPr>
        <p:sp>
          <p:nvSpPr>
            <p:cNvPr id="315" name="Rectangle 236"/>
            <p:cNvSpPr/>
            <p:nvPr/>
          </p:nvSpPr>
          <p:spPr>
            <a:xfrm>
              <a:off x="4859280" y="3422520"/>
              <a:ext cx="10270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ound Same Side Corner Rectangle 237"/>
            <p:cNvSpPr/>
            <p:nvPr/>
          </p:nvSpPr>
          <p:spPr>
            <a:xfrm rot="10800000">
              <a:off x="4920840" y="3238200"/>
              <a:ext cx="606600" cy="282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TextBox 238"/>
            <p:cNvSpPr/>
            <p:nvPr/>
          </p:nvSpPr>
          <p:spPr>
            <a:xfrm>
              <a:off x="5058360" y="3258360"/>
              <a:ext cx="31428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" name="Group 20"/>
          <p:cNvGrpSpPr/>
          <p:nvPr/>
        </p:nvGrpSpPr>
        <p:grpSpPr>
          <a:xfrm>
            <a:off x="3087720" y="3276720"/>
            <a:ext cx="988920" cy="538200"/>
            <a:chOff x="3087720" y="3276720"/>
            <a:chExt cx="988920" cy="538200"/>
          </a:xfrm>
        </p:grpSpPr>
        <p:sp>
          <p:nvSpPr>
            <p:cNvPr id="319" name="Rectangle 240"/>
            <p:cNvSpPr/>
            <p:nvPr/>
          </p:nvSpPr>
          <p:spPr>
            <a:xfrm>
              <a:off x="3087720" y="3416400"/>
              <a:ext cx="98892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241"/>
            <p:cNvSpPr/>
            <p:nvPr/>
          </p:nvSpPr>
          <p:spPr>
            <a:xfrm>
              <a:off x="3176640" y="3276720"/>
              <a:ext cx="53172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Box 242"/>
            <p:cNvSpPr/>
            <p:nvPr/>
          </p:nvSpPr>
          <p:spPr>
            <a:xfrm>
              <a:off x="3258360" y="3282480"/>
              <a:ext cx="232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cxnSp>
        <p:nvCxnSpPr>
          <p:cNvPr id="322" name="Straight Arrow Connector 243"/>
          <p:cNvCxnSpPr>
            <a:stCxn id="315" idx="1"/>
            <a:endCxn id="319" idx="3"/>
          </p:cNvCxnSpPr>
          <p:nvPr/>
        </p:nvCxnSpPr>
        <p:spPr>
          <a:xfrm flipH="1" flipV="1">
            <a:off x="4076280" y="3614400"/>
            <a:ext cx="78336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3" name="Straight Connector 248"/>
          <p:cNvSpPr/>
          <p:nvPr/>
        </p:nvSpPr>
        <p:spPr>
          <a:xfrm flipH="1">
            <a:off x="7237080" y="2335320"/>
            <a:ext cx="3240" cy="831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Straight Connector 251"/>
          <p:cNvSpPr/>
          <p:nvPr/>
        </p:nvSpPr>
        <p:spPr>
          <a:xfrm flipH="1" flipV="1">
            <a:off x="4572000" y="3146400"/>
            <a:ext cx="2666880" cy="14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Straight Connector 253"/>
          <p:cNvSpPr/>
          <p:nvPr/>
        </p:nvSpPr>
        <p:spPr>
          <a:xfrm flipH="1">
            <a:off x="4570560" y="3157560"/>
            <a:ext cx="1440" cy="3636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traight Connector 261"/>
          <p:cNvSpPr/>
          <p:nvPr/>
        </p:nvSpPr>
        <p:spPr>
          <a:xfrm flipH="1">
            <a:off x="1143000" y="3614760"/>
            <a:ext cx="19447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Straight Connector 263"/>
          <p:cNvSpPr/>
          <p:nvPr/>
        </p:nvSpPr>
        <p:spPr>
          <a:xfrm flipV="1">
            <a:off x="1141560" y="1677960"/>
            <a:ext cx="1440" cy="19382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8" name="Straight Arrow Connector 265"/>
          <p:cNvCxnSpPr/>
          <p:nvPr/>
        </p:nvCxnSpPr>
        <p:spPr>
          <a:xfrm>
            <a:off x="1142640" y="1668600"/>
            <a:ext cx="93564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29" name="Straight Connector 267"/>
          <p:cNvSpPr/>
          <p:nvPr/>
        </p:nvSpPr>
        <p:spPr>
          <a:xfrm>
            <a:off x="3648240" y="441360"/>
            <a:ext cx="6793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Straight Connector 268"/>
          <p:cNvSpPr/>
          <p:nvPr/>
        </p:nvSpPr>
        <p:spPr>
          <a:xfrm>
            <a:off x="3648240" y="746280"/>
            <a:ext cx="6793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Straight Connector 270"/>
          <p:cNvSpPr/>
          <p:nvPr/>
        </p:nvSpPr>
        <p:spPr>
          <a:xfrm flipV="1">
            <a:off x="3648240" y="595080"/>
            <a:ext cx="15372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Straight Connector 274"/>
          <p:cNvSpPr/>
          <p:nvPr/>
        </p:nvSpPr>
        <p:spPr>
          <a:xfrm flipH="1" flipV="1">
            <a:off x="4157640" y="595080"/>
            <a:ext cx="16992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traight Connector 276"/>
          <p:cNvSpPr/>
          <p:nvPr/>
        </p:nvSpPr>
        <p:spPr>
          <a:xfrm flipH="1" flipV="1">
            <a:off x="3647880" y="442800"/>
            <a:ext cx="16956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traight Connector 277"/>
          <p:cNvSpPr/>
          <p:nvPr/>
        </p:nvSpPr>
        <p:spPr>
          <a:xfrm flipV="1">
            <a:off x="4173480" y="441000"/>
            <a:ext cx="154080" cy="152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Box 278"/>
          <p:cNvSpPr/>
          <p:nvPr/>
        </p:nvSpPr>
        <p:spPr>
          <a:xfrm>
            <a:off x="3818520" y="469800"/>
            <a:ext cx="36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traight Connector 280"/>
          <p:cNvSpPr/>
          <p:nvPr/>
        </p:nvSpPr>
        <p:spPr>
          <a:xfrm flipH="1" flipV="1">
            <a:off x="2971440" y="608040"/>
            <a:ext cx="80172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Straight Connector 284"/>
          <p:cNvSpPr/>
          <p:nvPr/>
        </p:nvSpPr>
        <p:spPr>
          <a:xfrm flipH="1">
            <a:off x="2971800" y="595440"/>
            <a:ext cx="1440" cy="1022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8" name="Straight Arrow Connector 286"/>
          <p:cNvCxnSpPr/>
          <p:nvPr/>
        </p:nvCxnSpPr>
        <p:spPr>
          <a:xfrm flipH="1" flipV="1">
            <a:off x="2083680" y="1599840"/>
            <a:ext cx="88812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39" name="Straight Arrow Connector 290"/>
          <p:cNvCxnSpPr/>
          <p:nvPr/>
        </p:nvCxnSpPr>
        <p:spPr>
          <a:xfrm>
            <a:off x="2971800" y="1601280"/>
            <a:ext cx="535680" cy="16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0" name="Straight Connector 292"/>
          <p:cNvSpPr/>
          <p:nvPr/>
        </p:nvSpPr>
        <p:spPr>
          <a:xfrm flipH="1">
            <a:off x="4325400" y="762120"/>
            <a:ext cx="1800" cy="992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1" name="Straight Arrow Connector 294"/>
          <p:cNvCxnSpPr/>
          <p:nvPr/>
        </p:nvCxnSpPr>
        <p:spPr>
          <a:xfrm>
            <a:off x="4325760" y="1753920"/>
            <a:ext cx="1348560" cy="11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42" name="TextBox 295"/>
          <p:cNvSpPr/>
          <p:nvPr/>
        </p:nvSpPr>
        <p:spPr>
          <a:xfrm>
            <a:off x="1605240" y="4572000"/>
            <a:ext cx="568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abadopsis 3 loop model in SBGN-Activity Flow no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Picture 1.png"/>
          <p:cNvPicPr/>
          <p:nvPr/>
        </p:nvPicPr>
        <p:blipFill>
          <a:blip r:embed="rId1"/>
          <a:stretch/>
        </p:blipFill>
        <p:spPr>
          <a:xfrm>
            <a:off x="374760" y="1066680"/>
            <a:ext cx="846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bgn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ystems Biology Graphical Notation.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ature Biotechnology 27, 735 - 741 (2009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dx.doi.org/10.1038/nbt.155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s can help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13"/>
          <p:cNvGrpSpPr/>
          <p:nvPr/>
        </p:nvGrpSpPr>
        <p:grpSpPr>
          <a:xfrm>
            <a:off x="228600" y="1828800"/>
            <a:ext cx="2322360" cy="3930480"/>
            <a:chOff x="228600" y="1828800"/>
            <a:chExt cx="2322360" cy="3930480"/>
          </a:xfrm>
        </p:grpSpPr>
        <p:sp>
          <p:nvSpPr>
            <p:cNvPr id="146" name="Cloud Callout 9"/>
            <p:cNvSpPr/>
            <p:nvPr/>
          </p:nvSpPr>
          <p:spPr>
            <a:xfrm>
              <a:off x="228600" y="1828800"/>
              <a:ext cx="2285280" cy="20574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4" descr="Picture 1.png"/>
            <p:cNvPicPr/>
            <p:nvPr/>
          </p:nvPicPr>
          <p:blipFill>
            <a:blip r:embed="rId1"/>
            <a:stretch/>
          </p:blipFill>
          <p:spPr>
            <a:xfrm>
              <a:off x="1371240" y="4495680"/>
              <a:ext cx="117972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Picture 2.png"/>
            <p:cNvPicPr/>
            <p:nvPr/>
          </p:nvPicPr>
          <p:blipFill>
            <a:blip r:embed="rId2"/>
            <a:stretch/>
          </p:blipFill>
          <p:spPr>
            <a:xfrm>
              <a:off x="533160" y="4114800"/>
              <a:ext cx="99000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Picture 5.png"/>
            <p:cNvPicPr/>
            <p:nvPr/>
          </p:nvPicPr>
          <p:blipFill>
            <a:blip r:embed="rId3"/>
            <a:stretch/>
          </p:blipFill>
          <p:spPr>
            <a:xfrm>
              <a:off x="685440" y="2057400"/>
              <a:ext cx="1218600" cy="14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Group 14"/>
          <p:cNvGrpSpPr/>
          <p:nvPr/>
        </p:nvGrpSpPr>
        <p:grpSpPr>
          <a:xfrm>
            <a:off x="5791320" y="838080"/>
            <a:ext cx="2971800" cy="4429080"/>
            <a:chOff x="5791320" y="838080"/>
            <a:chExt cx="2971800" cy="4429080"/>
          </a:xfrm>
        </p:grpSpPr>
        <p:pic>
          <p:nvPicPr>
            <p:cNvPr id="151" name="Picture 6" descr="Picture 3.png"/>
            <p:cNvPicPr/>
            <p:nvPr/>
          </p:nvPicPr>
          <p:blipFill>
            <a:blip r:embed="rId4"/>
            <a:stretch/>
          </p:blipFill>
          <p:spPr>
            <a:xfrm>
              <a:off x="5791320" y="3657600"/>
              <a:ext cx="1600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Cloud Callout 10"/>
            <p:cNvSpPr/>
            <p:nvPr/>
          </p:nvSpPr>
          <p:spPr>
            <a:xfrm>
              <a:off x="5867280" y="838080"/>
              <a:ext cx="2895840" cy="27435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3" name="Picture 11" descr="Picture 4.png"/>
            <p:cNvPicPr/>
            <p:nvPr/>
          </p:nvPicPr>
          <p:blipFill>
            <a:blip r:embed="rId5"/>
            <a:stretch/>
          </p:blipFill>
          <p:spPr>
            <a:xfrm>
              <a:off x="6489720" y="1295280"/>
              <a:ext cx="1663560" cy="179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12" descr="Picture 6.png"/>
          <p:cNvPicPr/>
          <p:nvPr/>
        </p:nvPicPr>
        <p:blipFill>
          <a:blip r:embed="rId6"/>
          <a:stretch/>
        </p:blipFill>
        <p:spPr>
          <a:xfrm>
            <a:off x="3048120" y="1752480"/>
            <a:ext cx="24382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drawback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mited tool support as yet – requires dedicated softwa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standard tools not implementing yet (e.g., Cytoscap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rowheads confusing/ not always implemented (e.g., Powerpoint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change between tool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ck of 3D visualization sup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e of state transition hard to interpr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BGN future develop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change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rrent spec is just graph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deally could save in one application, open in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ent ( entities, connection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notation (semantic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isual appearance (shape / colour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ols for SB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Designe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celldesigne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inburgh Pathway Editor (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www.pathwayeditor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PD, ER, A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adia  P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ed PD (http://vanted.ipk-gatersleben.de/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torial – using CellDesigner to explore SBGN-P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3657240"/>
            <a:ext cx="8043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Designer overview and t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rcadian clock model drawing and mod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t from mitosis’ diagr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ng your own’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779760" y="1905120"/>
            <a:ext cx="6672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working knowledge of SBGN-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to use CellDesigner pathway editing/simulation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torial contents…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Content Placeholder 4" descr="Picture 2.png"/>
          <p:cNvPicPr/>
          <p:nvPr/>
        </p:nvPicPr>
        <p:blipFill>
          <a:blip r:embed="rId2"/>
          <a:srcRect l="0" t="-2876" r="0" b="-2876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8"/>
          <p:cNvGrpSpPr/>
          <p:nvPr/>
        </p:nvGrpSpPr>
        <p:grpSpPr>
          <a:xfrm>
            <a:off x="2824200" y="857160"/>
            <a:ext cx="5788080" cy="5192640"/>
            <a:chOff x="2824200" y="857160"/>
            <a:chExt cx="5788080" cy="5192640"/>
          </a:xfrm>
        </p:grpSpPr>
        <p:pic>
          <p:nvPicPr>
            <p:cNvPr id="358" name="Picture 5" descr=""/>
            <p:cNvPicPr/>
            <p:nvPr/>
          </p:nvPicPr>
          <p:blipFill>
            <a:blip r:embed="rId2"/>
            <a:stretch/>
          </p:blipFill>
          <p:spPr>
            <a:xfrm>
              <a:off x="2824200" y="1682280"/>
              <a:ext cx="124416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" descr=""/>
            <p:cNvPicPr/>
            <p:nvPr/>
          </p:nvPicPr>
          <p:blipFill>
            <a:blip r:embed="rId3"/>
            <a:stretch/>
          </p:blipFill>
          <p:spPr>
            <a:xfrm>
              <a:off x="5158800" y="171720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" descr=""/>
            <p:cNvPicPr/>
            <p:nvPr/>
          </p:nvPicPr>
          <p:blipFill>
            <a:blip r:embed="rId4"/>
            <a:stretch/>
          </p:blipFill>
          <p:spPr>
            <a:xfrm>
              <a:off x="2828880" y="3297240"/>
              <a:ext cx="1257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"/>
            <p:cNvPicPr/>
            <p:nvPr/>
          </p:nvPicPr>
          <p:blipFill>
            <a:blip r:embed="rId5"/>
            <a:stretch/>
          </p:blipFill>
          <p:spPr>
            <a:xfrm>
              <a:off x="7380720" y="520344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9" descr=""/>
            <p:cNvPicPr/>
            <p:nvPr/>
          </p:nvPicPr>
          <p:blipFill>
            <a:blip r:embed="rId6"/>
            <a:stretch/>
          </p:blipFill>
          <p:spPr>
            <a:xfrm>
              <a:off x="5317560" y="5173560"/>
              <a:ext cx="9140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0" descr=""/>
            <p:cNvPicPr/>
            <p:nvPr/>
          </p:nvPicPr>
          <p:blipFill>
            <a:blip r:embed="rId7"/>
            <a:stretch/>
          </p:blipFill>
          <p:spPr>
            <a:xfrm>
              <a:off x="2887560" y="5165640"/>
              <a:ext cx="1206360" cy="82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11"/>
            <p:cNvSpPr/>
            <p:nvPr/>
          </p:nvSpPr>
          <p:spPr>
            <a:xfrm>
              <a:off x="3009240" y="868680"/>
              <a:ext cx="57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TextBox 12"/>
            <p:cNvSpPr/>
            <p:nvPr/>
          </p:nvSpPr>
          <p:spPr>
            <a:xfrm>
              <a:off x="5352120" y="88020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TextBox 13"/>
            <p:cNvSpPr/>
            <p:nvPr/>
          </p:nvSpPr>
          <p:spPr>
            <a:xfrm>
              <a:off x="7713720" y="857160"/>
              <a:ext cx="56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TextBox 14"/>
            <p:cNvSpPr/>
            <p:nvPr/>
          </p:nvSpPr>
          <p:spPr>
            <a:xfrm>
              <a:off x="7877160" y="1968480"/>
              <a:ext cx="23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TextBox 15"/>
            <p:cNvSpPr/>
            <p:nvPr/>
          </p:nvSpPr>
          <p:spPr>
            <a:xfrm>
              <a:off x="5445720" y="3531600"/>
              <a:ext cx="65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D-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TextBox 16"/>
            <p:cNvSpPr/>
            <p:nvPr/>
          </p:nvSpPr>
          <p:spPr>
            <a:xfrm>
              <a:off x="7689960" y="3531600"/>
              <a:ext cx="61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BR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0" name="TextBox 19"/>
          <p:cNvSpPr/>
          <p:nvPr/>
        </p:nvSpPr>
        <p:spPr>
          <a:xfrm>
            <a:off x="1231200" y="1712880"/>
            <a:ext cx="1056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1205640" y="3530520"/>
            <a:ext cx="90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1068840" y="525456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Down Arrow 22"/>
          <p:cNvSpPr/>
          <p:nvPr/>
        </p:nvSpPr>
        <p:spPr>
          <a:xfrm>
            <a:off x="3286080" y="2583000"/>
            <a:ext cx="176400" cy="6094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Down Arrow 24"/>
          <p:cNvSpPr/>
          <p:nvPr/>
        </p:nvSpPr>
        <p:spPr>
          <a:xfrm>
            <a:off x="5691240" y="2579760"/>
            <a:ext cx="177840" cy="611280"/>
          </a:xfrm>
          <a:prstGeom prst="down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Down Arrow 25"/>
          <p:cNvSpPr/>
          <p:nvPr/>
        </p:nvSpPr>
        <p:spPr>
          <a:xfrm>
            <a:off x="7907400" y="259092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Down Arrow 26"/>
          <p:cNvSpPr/>
          <p:nvPr/>
        </p:nvSpPr>
        <p:spPr>
          <a:xfrm flipV="1">
            <a:off x="333072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Down Arrow 27"/>
          <p:cNvSpPr/>
          <p:nvPr/>
        </p:nvSpPr>
        <p:spPr>
          <a:xfrm flipV="1">
            <a:off x="5699160" y="4307760"/>
            <a:ext cx="177840" cy="60948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Down Arrow 28"/>
          <p:cNvSpPr/>
          <p:nvPr/>
        </p:nvSpPr>
        <p:spPr>
          <a:xfrm flipV="1">
            <a:off x="790416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423900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Box 30"/>
          <p:cNvSpPr/>
          <p:nvPr/>
        </p:nvSpPr>
        <p:spPr>
          <a:xfrm>
            <a:off x="649872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Box 32"/>
          <p:cNvSpPr/>
          <p:nvPr/>
        </p:nvSpPr>
        <p:spPr>
          <a:xfrm>
            <a:off x="4308120" y="4433760"/>
            <a:ext cx="70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Box 33"/>
          <p:cNvSpPr/>
          <p:nvPr/>
        </p:nvSpPr>
        <p:spPr>
          <a:xfrm>
            <a:off x="6397560" y="4433760"/>
            <a:ext cx="110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4280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base model to use &amp; which modifications to app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simulation task to run on those models (algorithms, see KiSAO; simulation parameter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post-process the numerical results and to present th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bi.ac.uk/compneur-srv/miase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set of MISE could be encoded 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D-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D-M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code MIASE requi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on of mod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CD7-632F-4649-85EE-1F431C949922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2"/>
          <a:stretch/>
        </p:blipFill>
        <p:spPr>
          <a:xfrm>
            <a:off x="231840" y="1392120"/>
            <a:ext cx="8737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on of mod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334800" y="1555920"/>
            <a:ext cx="859644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..but diagrams are of uncertain quality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APC"/>
          <p:cNvPicPr/>
          <p:nvPr/>
        </p:nvPicPr>
        <p:blipFill>
          <a:blip r:embed="rId2"/>
          <a:stretch/>
        </p:blipFill>
        <p:spPr>
          <a:xfrm>
            <a:off x="228600" y="1943280"/>
            <a:ext cx="7848720" cy="438120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3276720" y="3429000"/>
            <a:ext cx="99036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4343400" y="3657600"/>
            <a:ext cx="83808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2057400" y="3429000"/>
            <a:ext cx="99072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2819520" y="3809880"/>
            <a:ext cx="990360" cy="457200"/>
          </a:xfrm>
          <a:prstGeom prst="ellipse">
            <a:avLst/>
          </a:prstGeom>
          <a:noFill/>
          <a:ln w="38160">
            <a:solidFill>
              <a:srgbClr val="b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1" descr="Picture 4.png"/>
          <p:cNvPicPr/>
          <p:nvPr/>
        </p:nvPicPr>
        <p:blipFill>
          <a:blip r:embed="rId3"/>
          <a:stretch/>
        </p:blipFill>
        <p:spPr>
          <a:xfrm>
            <a:off x="6400800" y="1941480"/>
            <a:ext cx="16635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2"/>
          <a:stretch/>
        </p:blipFill>
        <p:spPr>
          <a:xfrm>
            <a:off x="1189080" y="1685880"/>
            <a:ext cx="6794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1854360" y="2394000"/>
            <a:ext cx="5435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tion tas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7435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a gene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2"/>
          <a:stretch/>
        </p:blipFill>
        <p:spPr>
          <a:xfrm>
            <a:off x="739800" y="1889280"/>
            <a:ext cx="76024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a gene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020-5C20-46DE-AE17-6CCF436FD622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272880" y="387360"/>
            <a:ext cx="8598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duction of resul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1446120" y="1689120"/>
            <a:ext cx="63626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18"/>
          <p:cNvGrpSpPr/>
          <p:nvPr/>
        </p:nvGrpSpPr>
        <p:grpSpPr>
          <a:xfrm>
            <a:off x="2824200" y="857160"/>
            <a:ext cx="5788080" cy="5192640"/>
            <a:chOff x="2824200" y="857160"/>
            <a:chExt cx="5788080" cy="5192640"/>
          </a:xfrm>
        </p:grpSpPr>
        <p:pic>
          <p:nvPicPr>
            <p:cNvPr id="416" name="Picture 5" descr=""/>
            <p:cNvPicPr/>
            <p:nvPr/>
          </p:nvPicPr>
          <p:blipFill>
            <a:blip r:embed="rId2"/>
            <a:stretch/>
          </p:blipFill>
          <p:spPr>
            <a:xfrm>
              <a:off x="2824200" y="1682280"/>
              <a:ext cx="124416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6" descr=""/>
            <p:cNvPicPr/>
            <p:nvPr/>
          </p:nvPicPr>
          <p:blipFill>
            <a:blip r:embed="rId3"/>
            <a:stretch/>
          </p:blipFill>
          <p:spPr>
            <a:xfrm>
              <a:off x="5158800" y="171720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"/>
            <p:cNvPicPr/>
            <p:nvPr/>
          </p:nvPicPr>
          <p:blipFill>
            <a:blip r:embed="rId4"/>
            <a:stretch/>
          </p:blipFill>
          <p:spPr>
            <a:xfrm>
              <a:off x="2828880" y="3297240"/>
              <a:ext cx="1257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8" descr=""/>
            <p:cNvPicPr/>
            <p:nvPr/>
          </p:nvPicPr>
          <p:blipFill>
            <a:blip r:embed="rId5"/>
            <a:stretch/>
          </p:blipFill>
          <p:spPr>
            <a:xfrm>
              <a:off x="7380720" y="5203440"/>
              <a:ext cx="1231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9" descr=""/>
            <p:cNvPicPr/>
            <p:nvPr/>
          </p:nvPicPr>
          <p:blipFill>
            <a:blip r:embed="rId6"/>
            <a:stretch/>
          </p:blipFill>
          <p:spPr>
            <a:xfrm>
              <a:off x="5317560" y="5173560"/>
              <a:ext cx="91404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0" descr=""/>
            <p:cNvPicPr/>
            <p:nvPr/>
          </p:nvPicPr>
          <p:blipFill>
            <a:blip r:embed="rId7"/>
            <a:stretch/>
          </p:blipFill>
          <p:spPr>
            <a:xfrm>
              <a:off x="2887560" y="5165640"/>
              <a:ext cx="1206360" cy="82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Box 11"/>
            <p:cNvSpPr/>
            <p:nvPr/>
          </p:nvSpPr>
          <p:spPr>
            <a:xfrm>
              <a:off x="3009240" y="868680"/>
              <a:ext cx="572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Box 12"/>
            <p:cNvSpPr/>
            <p:nvPr/>
          </p:nvSpPr>
          <p:spPr>
            <a:xfrm>
              <a:off x="5352120" y="88020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TextBox 13"/>
            <p:cNvSpPr/>
            <p:nvPr/>
          </p:nvSpPr>
          <p:spPr>
            <a:xfrm>
              <a:off x="7713720" y="857160"/>
              <a:ext cx="56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pple Casual"/>
                  <a:ea typeface="Apple Casu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TextBox 14"/>
            <p:cNvSpPr/>
            <p:nvPr/>
          </p:nvSpPr>
          <p:spPr>
            <a:xfrm>
              <a:off x="7877160" y="1968480"/>
              <a:ext cx="238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TextBox 15"/>
            <p:cNvSpPr/>
            <p:nvPr/>
          </p:nvSpPr>
          <p:spPr>
            <a:xfrm>
              <a:off x="5445720" y="3531600"/>
              <a:ext cx="65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D-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7" name="TextBox 16"/>
            <p:cNvSpPr/>
            <p:nvPr/>
          </p:nvSpPr>
          <p:spPr>
            <a:xfrm>
              <a:off x="7689960" y="3531600"/>
              <a:ext cx="61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BRM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8" name="TextBox 19"/>
          <p:cNvSpPr/>
          <p:nvPr/>
        </p:nvSpPr>
        <p:spPr>
          <a:xfrm>
            <a:off x="1231200" y="1712880"/>
            <a:ext cx="1056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Minim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Box 20"/>
          <p:cNvSpPr/>
          <p:nvPr/>
        </p:nvSpPr>
        <p:spPr>
          <a:xfrm>
            <a:off x="1205640" y="3530520"/>
            <a:ext cx="90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Data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TextBox 21"/>
          <p:cNvSpPr/>
          <p:nvPr/>
        </p:nvSpPr>
        <p:spPr>
          <a:xfrm>
            <a:off x="1068840" y="525456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Casual"/>
                <a:ea typeface="Apple Casual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Down Arrow 22"/>
          <p:cNvSpPr/>
          <p:nvPr/>
        </p:nvSpPr>
        <p:spPr>
          <a:xfrm>
            <a:off x="3286080" y="2583000"/>
            <a:ext cx="176400" cy="60948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Down Arrow 24"/>
          <p:cNvSpPr/>
          <p:nvPr/>
        </p:nvSpPr>
        <p:spPr>
          <a:xfrm>
            <a:off x="5691240" y="2579760"/>
            <a:ext cx="177840" cy="611280"/>
          </a:xfrm>
          <a:prstGeom prst="down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Down Arrow 25"/>
          <p:cNvSpPr/>
          <p:nvPr/>
        </p:nvSpPr>
        <p:spPr>
          <a:xfrm>
            <a:off x="7907400" y="259092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Down Arrow 26"/>
          <p:cNvSpPr/>
          <p:nvPr/>
        </p:nvSpPr>
        <p:spPr>
          <a:xfrm flipV="1">
            <a:off x="333072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Down Arrow 27"/>
          <p:cNvSpPr/>
          <p:nvPr/>
        </p:nvSpPr>
        <p:spPr>
          <a:xfrm flipV="1">
            <a:off x="5699160" y="4307760"/>
            <a:ext cx="177840" cy="609480"/>
          </a:xfrm>
          <a:prstGeom prst="downArrow">
            <a:avLst>
              <a:gd name="adj1" fmla="val 50000"/>
              <a:gd name="adj2" fmla="val 49979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Down Arrow 28"/>
          <p:cNvSpPr/>
          <p:nvPr/>
        </p:nvSpPr>
        <p:spPr>
          <a:xfrm flipV="1">
            <a:off x="7904160" y="4307760"/>
            <a:ext cx="176040" cy="609480"/>
          </a:xfrm>
          <a:prstGeom prst="down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90000"/>
              </a:gs>
              <a:gs pos="100000">
                <a:srgbClr val="ffffff"/>
              </a:gs>
            </a:gsLst>
            <a:lin ang="5940000"/>
          </a:gradFill>
          <a:ln w="9360">
            <a:solidFill>
              <a:srgbClr val="9fae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Box 29"/>
          <p:cNvSpPr/>
          <p:nvPr/>
        </p:nvSpPr>
        <p:spPr>
          <a:xfrm>
            <a:off x="423900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Box 30"/>
          <p:cNvSpPr/>
          <p:nvPr/>
        </p:nvSpPr>
        <p:spPr>
          <a:xfrm>
            <a:off x="6498720" y="2825640"/>
            <a:ext cx="91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Box 32"/>
          <p:cNvSpPr/>
          <p:nvPr/>
        </p:nvSpPr>
        <p:spPr>
          <a:xfrm>
            <a:off x="4308120" y="4433760"/>
            <a:ext cx="702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TextBox 33"/>
          <p:cNvSpPr/>
          <p:nvPr/>
        </p:nvSpPr>
        <p:spPr>
          <a:xfrm>
            <a:off x="6397560" y="4433760"/>
            <a:ext cx="110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Makes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pple Casual"/>
                <a:ea typeface="Apple Casual"/>
              </a:rPr>
              <a:t>sense 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iSA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inetic Simulation Algorithm Ont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ification of simulation algorithms &amp; metho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tion, literature referen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ons between different simulation algorithms &amp; metho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ebi.ac.uk/compneur-srv/kisao/index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iSA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DD3D-1528-4E7D-AFC7-D8CB2B6C83B7}" type="datetime5">
              <a:rPr b="0" lang="en-US" sz="1200" spc="-1" strike="noStrike">
                <a:solidFill>
                  <a:srgbClr val="000000"/>
                </a:solidFill>
                <a:latin typeface="Verdan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toly Sorok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7" name="Picture 6" descr=""/>
          <p:cNvPicPr/>
          <p:nvPr/>
        </p:nvPicPr>
        <p:blipFill>
          <a:blip r:embed="rId2"/>
          <a:stretch/>
        </p:blipFill>
        <p:spPr>
          <a:xfrm>
            <a:off x="385920" y="1290600"/>
            <a:ext cx="8393040" cy="48290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7"/>
          <p:cNvSpPr/>
          <p:nvPr/>
        </p:nvSpPr>
        <p:spPr>
          <a:xfrm>
            <a:off x="4680720" y="5425920"/>
            <a:ext cx="318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ioportal.bioontology.org/visualize/408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k1 activity regulates APC/C in multiple ways to promote mitotic progression. In early mitosis, Plk1 activity triggers the degradation of Emi1 via SCFß-TRCP, a prerequisite for the generation of an active APC/CCdc20 complex. However, in case of an activated spindle assembly checkpoint, Mad2 </a:t>
            </a:r>
            <a:r>
              <a:rPr b="1" lang="en-US" sz="1200" spc="-1" strike="noStrike">
                <a:solidFill>
                  <a:srgbClr val="b90000"/>
                </a:solidFill>
                <a:latin typeface="Verdana"/>
              </a:rPr>
              <a:t>and/or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bR1 bind to Cdc20, thereby inhibiting the APC/C. Plk1 acts antagonistically to the spindle checkpoint and regulates the kinetochore localization of Mad2. Silencing of the spindle checkpoint enables the formation of active APC/CCdc20 and the degradation of cyclin B1. When Cdc20 is replaced by Cdh1, additional substrates, like Cdc20 itself and Plk1, are degraded. Finally, active APC/CCdh1 allows mitotic exit and entry into the subsequent G1 phas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APC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y the need for a standard notation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Most pathway diagrams are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amenable to computation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t interpretable without figure lege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‘one-off’ graphical symbols that must be lear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rd to disseminate (colour, line-width, dash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we really need i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Picture 1.png"/>
          <p:cNvPicPr/>
          <p:nvPr/>
        </p:nvPicPr>
        <p:blipFill>
          <a:blip r:embed="rId2"/>
          <a:stretch/>
        </p:blipFill>
        <p:spPr>
          <a:xfrm>
            <a:off x="380880" y="1752480"/>
            <a:ext cx="8618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13:49:17Z</dcterms:created>
  <dc:creator>radams</dc:creator>
  <dc:description/>
  <dc:language>en-US</dc:language>
  <cp:lastModifiedBy>Richard Adams</cp:lastModifiedBy>
  <dcterms:modified xsi:type="dcterms:W3CDTF">2010-07-27T14:48:14Z</dcterms:modified>
  <cp:revision>199</cp:revision>
  <dc:subject/>
  <dc:title>Tutorial 2    Systems Biology Graphical Notation in E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